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2.gif" ContentType="image/gif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0.png" ContentType="image/png"/>
  <Override PartName="/ppt/media/image30.png" ContentType="image/png"/>
  <Override PartName="/ppt/media/image4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53.jpeg" ContentType="image/jpeg"/>
  <Override PartName="/ppt/media/image52.jpeg" ContentType="image/jpeg"/>
  <Override PartName="/ppt/media/image38.png" ContentType="image/png"/>
  <Override PartName="/ppt/media/image8.png" ContentType="image/png"/>
  <Override PartName="/ppt/media/image41.png" ContentType="image/png"/>
  <Override PartName="/ppt/media/image39.png" ContentType="image/png"/>
  <Override PartName="/ppt/media/image9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embeddings/oleObject13.bin" ContentType="application/vnd.openxmlformats-officedocument.oleObject"/>
  <Override PartName="/ppt/embeddings/oleObject1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72F19-B872-47D5-9D45-E589E18892E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25C91-5605-433B-9050-649E0F0C374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C4402-F1F9-459C-BD6A-5C71BB1294A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FD81B-8231-4EC9-A122-74A2FD546D0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95A25-6CBA-4706-A9A4-CFF8650150B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2E4C9-4473-49CD-91A3-2A17C7F7C34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DFC55-0DF0-45A1-AFF1-812F95AA740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21206-C3D6-4892-86E8-510BDD3B1C9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706AB-913E-4C93-8B95-DE45499C03F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64AA3-4965-4283-A996-D97532943EE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FFD26-B6A3-4B47-83E1-F9A940B283C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EF2D5-8AF1-41AB-8FAA-25DF92BB44D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063D1-84E1-4FAF-8F3D-CE160443623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BB1F0-706B-441A-9A03-96C38C52757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D623F-1AAA-418D-9298-09DC9C596D0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FE455-F50D-4105-B67F-77F7813F540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72568-7D1F-4CFA-87B9-99BEBCEE3D3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A8B74-FA62-48D0-9F3D-52A81A6C267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3CD47-9539-4A3F-8CAF-82A1A251767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72A78-BAE6-4EC1-829A-A740FD2873A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F1D66-E811-4CDC-82D4-B588708DFCB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D73BA-2BED-4B1E-9084-8B46EFCD0DD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8EB9-91D3-472E-8054-C6C582D4A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91B2-2395-408A-925F-087E0341A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E061-6FC5-4B12-8481-652BAF3B3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5894-0137-4642-B09C-2879D09E2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740D-A2F7-4BF8-B18D-123FAEA8B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ECBC-1ED4-4736-B8A8-6991B1BA4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5CB2-CC33-4EE5-94E3-3196A781F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A1AB-F4AC-44EC-A690-823D99D2F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6B80-5081-4093-A9A4-197051AF7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9B9F-F1F3-4FE9-9E33-0C660B59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538B-6F92-442F-A378-F95F36CE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44C6-4966-4E19-9BB8-BC74A769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E9A91-D385-4422-8BC7-7720D31194D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QW9TIzJDxZc&amp;feature=related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7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8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29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30.png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31.png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32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png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png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35.png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36.png"/><Relationship Id="rId23" Type="http://schemas.openxmlformats.org/officeDocument/2006/relationships/oleObject" Target="../embeddings/oleObject11.bin"/><Relationship Id="rId24" Type="http://schemas.openxmlformats.org/officeDocument/2006/relationships/image" Target="../media/image37.png"/><Relationship Id="rId25" Type="http://schemas.openxmlformats.org/officeDocument/2006/relationships/oleObject" Target="../embeddings/oleObject12.bin"/><Relationship Id="rId26" Type="http://schemas.openxmlformats.org/officeDocument/2006/relationships/image" Target="../media/image38.png"/><Relationship Id="rId27" Type="http://schemas.openxmlformats.org/officeDocument/2006/relationships/oleObject" Target="../embeddings/oleObject13.bin"/><Relationship Id="rId28" Type="http://schemas.openxmlformats.org/officeDocument/2006/relationships/image" Target="../media/image39.png"/><Relationship Id="rId29" Type="http://schemas.openxmlformats.org/officeDocument/2006/relationships/oleObject" Target="../embeddings/oleObject14.bin"/><Relationship Id="rId30" Type="http://schemas.openxmlformats.org/officeDocument/2006/relationships/image" Target="../media/image40.png"/><Relationship Id="rId31" Type="http://schemas.openxmlformats.org/officeDocument/2006/relationships/slideLayout" Target="../slideLayouts/slideLayout1.xml"/><Relationship Id="rId3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1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42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43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44.png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45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6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47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48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49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51.png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360360" y="1206360"/>
            <a:ext cx="8028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ffffff"/>
                </a:solidFill>
                <a:latin typeface="Verdana"/>
              </a:rPr>
              <a:t>Química Orgânic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1523880" y="5181480"/>
            <a:ext cx="7543800" cy="685800"/>
          </a:xfrm>
          <a:prstGeom prst="rect">
            <a:avLst/>
          </a:prstGeom>
          <a:solidFill>
            <a:srgbClr val="33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2124000" y="5064120"/>
            <a:ext cx="6048360" cy="5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ISOMERI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7">
            <a:hlinkClick r:id="" action="ppaction://hlinkshowjump?jump=nextslide"/>
          </p:cNvPr>
          <p:cNvSpPr/>
          <p:nvPr/>
        </p:nvSpPr>
        <p:spPr>
          <a:xfrm rot="5400000">
            <a:off x="8420040" y="6134040"/>
            <a:ext cx="457200" cy="38088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0" y="154080"/>
            <a:ext cx="9144000" cy="4554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609480" y="90360"/>
            <a:ext cx="468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Isomeria Pl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4">
            <a:hlinkClick r:id="" action="ppaction://hlinkshowjump?jump=previousslide"/>
          </p:cNvPr>
          <p:cNvSpPr/>
          <p:nvPr/>
        </p:nvSpPr>
        <p:spPr>
          <a:xfrm rot="16201800">
            <a:off x="112680" y="112320"/>
            <a:ext cx="459000" cy="38268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5">
            <a:hlinkClick r:id="" action="ppaction://hlinkshowjump?jump=nextslide"/>
          </p:cNvPr>
          <p:cNvSpPr/>
          <p:nvPr/>
        </p:nvSpPr>
        <p:spPr>
          <a:xfrm rot="5400000">
            <a:off x="8648640" y="419040"/>
            <a:ext cx="457200" cy="38088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6"/>
          <p:cNvSpPr/>
          <p:nvPr/>
        </p:nvSpPr>
        <p:spPr>
          <a:xfrm>
            <a:off x="6477120" y="1522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7"/>
          <p:cNvSpPr/>
          <p:nvPr/>
        </p:nvSpPr>
        <p:spPr>
          <a:xfrm>
            <a:off x="5292720" y="1522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-344520" y="-75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0"/>
          <p:cNvSpPr/>
          <p:nvPr/>
        </p:nvSpPr>
        <p:spPr>
          <a:xfrm>
            <a:off x="0" y="-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1"/>
          <p:cNvSpPr/>
          <p:nvPr/>
        </p:nvSpPr>
        <p:spPr>
          <a:xfrm>
            <a:off x="-171360" y="1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-782640" y="-11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3"/>
          <p:cNvSpPr/>
          <p:nvPr/>
        </p:nvSpPr>
        <p:spPr>
          <a:xfrm>
            <a:off x="-4513320" y="-93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619280" y="812880"/>
          <a:ext cx="5689440" cy="457200"/>
        </p:xfrm>
        <a:graphic>
          <a:graphicData uri="http://schemas.openxmlformats.org/drawingml/2006/table">
            <a:tbl>
              <a:tblPr/>
              <a:tblGrid>
                <a:gridCol w="568944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automeria ou Isomeria Dinâmi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8080"/>
                      </a:solidFill>
                    </a:lnL>
                    <a:lnR w="4320">
                      <a:solidFill>
                        <a:srgbClr val="008080"/>
                      </a:solidFill>
                    </a:lnR>
                    <a:lnT w="4320">
                      <a:solidFill>
                        <a:srgbClr val="008080"/>
                      </a:solidFill>
                    </a:lnT>
                    <a:lnB w="4320">
                      <a:solidFill>
                        <a:srgbClr val="008080"/>
                      </a:solidFill>
                    </a:lnB>
                    <a:solidFill>
                      <a:srgbClr val="008080"/>
                    </a:solidFill>
                  </a:tcPr>
                </a:tc>
              </a:tr>
            </a:tbl>
          </a:graphicData>
        </a:graphic>
      </p:graphicFrame>
      <p:pic>
        <p:nvPicPr>
          <p:cNvPr id="183" name="Picture 49" descr="a001"/>
          <p:cNvPicPr/>
          <p:nvPr/>
        </p:nvPicPr>
        <p:blipFill>
          <a:blip r:embed="rId3"/>
          <a:stretch/>
        </p:blipFill>
        <p:spPr>
          <a:xfrm>
            <a:off x="1116000" y="2851200"/>
            <a:ext cx="7345440" cy="367344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50"/>
          <p:cNvSpPr/>
          <p:nvPr/>
        </p:nvSpPr>
        <p:spPr>
          <a:xfrm>
            <a:off x="324000" y="1275120"/>
            <a:ext cx="853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Times New Roman"/>
              </a:rPr>
              <a:t>A explicação pode ser dada através de conceitos simples como densidade eletrônica e carga parcial, como na animação abaixo. O exemplo utilizado será de um aldeído, mas também é possível explicar a tautomeria ceto-enólica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0" y="154080"/>
            <a:ext cx="9144000" cy="4554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609480" y="90360"/>
            <a:ext cx="468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Isomeria Geomét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5">
            <a:hlinkClick r:id="" action="ppaction://hlinkshowjump?jump=previousslide"/>
          </p:cNvPr>
          <p:cNvSpPr/>
          <p:nvPr/>
        </p:nvSpPr>
        <p:spPr>
          <a:xfrm rot="16201800">
            <a:off x="112680" y="112320"/>
            <a:ext cx="459000" cy="38268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6">
            <a:hlinkClick r:id="" action="ppaction://hlinkshowjump?jump=nextslide"/>
          </p:cNvPr>
          <p:cNvSpPr/>
          <p:nvPr/>
        </p:nvSpPr>
        <p:spPr>
          <a:xfrm rot="5400000">
            <a:off x="8648640" y="419040"/>
            <a:ext cx="457200" cy="38088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7"/>
          <p:cNvSpPr/>
          <p:nvPr/>
        </p:nvSpPr>
        <p:spPr>
          <a:xfrm>
            <a:off x="6477120" y="1522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8"/>
          <p:cNvSpPr/>
          <p:nvPr/>
        </p:nvSpPr>
        <p:spPr>
          <a:xfrm>
            <a:off x="5292720" y="1522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9"/>
          <p:cNvSpPr/>
          <p:nvPr/>
        </p:nvSpPr>
        <p:spPr>
          <a:xfrm>
            <a:off x="2533680" y="2882880"/>
            <a:ext cx="407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10"/>
          <p:cNvSpPr/>
          <p:nvPr/>
        </p:nvSpPr>
        <p:spPr>
          <a:xfrm>
            <a:off x="2533680" y="2882880"/>
            <a:ext cx="407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1"/>
          <p:cNvSpPr/>
          <p:nvPr/>
        </p:nvSpPr>
        <p:spPr>
          <a:xfrm>
            <a:off x="2533680" y="2882880"/>
            <a:ext cx="407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12"/>
          <p:cNvSpPr/>
          <p:nvPr/>
        </p:nvSpPr>
        <p:spPr>
          <a:xfrm>
            <a:off x="611280" y="1052640"/>
            <a:ext cx="7634160" cy="1191240"/>
          </a:xfrm>
          <a:prstGeom prst="rect">
            <a:avLst/>
          </a:prstGeom>
          <a:noFill/>
          <a:ln cap="rnd" w="63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 Black"/>
                <a:ea typeface="Arial"/>
              </a:rPr>
              <a:t>A isomeria geométrica ou Cis – Trans trata de casos onde há diferenças apenas na posição de alguns átomos em uma estrutura tridimension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13"/>
          <p:cNvSpPr/>
          <p:nvPr/>
        </p:nvSpPr>
        <p:spPr>
          <a:xfrm>
            <a:off x="250920" y="2852640"/>
            <a:ext cx="856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dições para ocorrênc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- Compostos com ligação dupla e cada carbono do laço duplo deve possuir os dois radicais difer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- Compostos cíclicos que possuam dois carbonos com dois radicais diferentas em cada 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- Compostos alênicos (derivados do propadien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0" y="154080"/>
            <a:ext cx="9144000" cy="4554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609480" y="90360"/>
            <a:ext cx="468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Isomeria Geomét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5">
            <a:hlinkClick r:id="" action="ppaction://hlinkshowjump?jump=previousslide"/>
          </p:cNvPr>
          <p:cNvSpPr/>
          <p:nvPr/>
        </p:nvSpPr>
        <p:spPr>
          <a:xfrm rot="16201800">
            <a:off x="112680" y="112320"/>
            <a:ext cx="459000" cy="38268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6">
            <a:hlinkClick r:id="" action="ppaction://hlinkshowjump?jump=nextslide"/>
          </p:cNvPr>
          <p:cNvSpPr/>
          <p:nvPr/>
        </p:nvSpPr>
        <p:spPr>
          <a:xfrm rot="5400000">
            <a:off x="8648640" y="419040"/>
            <a:ext cx="457200" cy="38088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7"/>
          <p:cNvSpPr/>
          <p:nvPr/>
        </p:nvSpPr>
        <p:spPr>
          <a:xfrm>
            <a:off x="6477120" y="1522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8"/>
          <p:cNvSpPr/>
          <p:nvPr/>
        </p:nvSpPr>
        <p:spPr>
          <a:xfrm>
            <a:off x="5292720" y="1522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9"/>
          <p:cNvSpPr/>
          <p:nvPr/>
        </p:nvSpPr>
        <p:spPr>
          <a:xfrm>
            <a:off x="2533680" y="2882880"/>
            <a:ext cx="407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0"/>
          <p:cNvSpPr/>
          <p:nvPr/>
        </p:nvSpPr>
        <p:spPr>
          <a:xfrm>
            <a:off x="2533680" y="2882880"/>
            <a:ext cx="407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1"/>
          <p:cNvSpPr/>
          <p:nvPr/>
        </p:nvSpPr>
        <p:spPr>
          <a:xfrm>
            <a:off x="2533680" y="2882880"/>
            <a:ext cx="407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3"/>
          <p:cNvSpPr/>
          <p:nvPr/>
        </p:nvSpPr>
        <p:spPr>
          <a:xfrm>
            <a:off x="1403280" y="62064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Black"/>
                <a:ea typeface="Arial"/>
              </a:rPr>
              <a:t>Compostos com ligações dupl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4"/>
          <p:cNvSpPr/>
          <p:nvPr/>
        </p:nvSpPr>
        <p:spPr>
          <a:xfrm>
            <a:off x="250920" y="105264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O composto 1,2-Dicloro-Eteno pode ser representado de duas maneira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Object 19"/>
          <p:cNvGraphicFramePr/>
          <p:nvPr/>
        </p:nvGraphicFramePr>
        <p:xfrm>
          <a:off x="2484360" y="1413000"/>
          <a:ext cx="3606840" cy="184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413000"/>
                    <a:ext cx="3606840" cy="18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Rectangle 20"/>
          <p:cNvSpPr/>
          <p:nvPr/>
        </p:nvSpPr>
        <p:spPr>
          <a:xfrm>
            <a:off x="1476360" y="3284640"/>
            <a:ext cx="59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Estruturas diferentes = Características diferent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Object 21"/>
          <p:cNvGraphicFramePr/>
          <p:nvPr/>
        </p:nvGraphicFramePr>
        <p:xfrm>
          <a:off x="2484360" y="3732120"/>
          <a:ext cx="3672000" cy="221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1" name="Object 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84360" y="3732120"/>
                    <a:ext cx="3672000" cy="22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Rectangle 22"/>
          <p:cNvSpPr/>
          <p:nvPr/>
        </p:nvSpPr>
        <p:spPr>
          <a:xfrm>
            <a:off x="1258920" y="6127920"/>
            <a:ext cx="59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Arial Black"/>
                <a:ea typeface="Arial"/>
              </a:rPr>
              <a:t>Como diferenciar as duas estrutura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23"/>
          <p:cNvSpPr/>
          <p:nvPr/>
        </p:nvSpPr>
        <p:spPr>
          <a:xfrm>
            <a:off x="6372360" y="2133720"/>
            <a:ext cx="2160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 ≠ R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 e R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 ≠ R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0" y="154080"/>
            <a:ext cx="9144000" cy="4554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609480" y="90360"/>
            <a:ext cx="468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Isomeria Geomét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5">
            <a:hlinkClick r:id="" action="ppaction://hlinkshowjump?jump=previousslide"/>
          </p:cNvPr>
          <p:cNvSpPr/>
          <p:nvPr/>
        </p:nvSpPr>
        <p:spPr>
          <a:xfrm rot="16201800">
            <a:off x="112680" y="112320"/>
            <a:ext cx="459000" cy="38268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AutoShape 6">
            <a:hlinkClick r:id="" action="ppaction://hlinkshowjump?jump=nextslide"/>
          </p:cNvPr>
          <p:cNvSpPr/>
          <p:nvPr/>
        </p:nvSpPr>
        <p:spPr>
          <a:xfrm rot="5400000">
            <a:off x="8648640" y="419040"/>
            <a:ext cx="457200" cy="38088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7"/>
          <p:cNvSpPr/>
          <p:nvPr/>
        </p:nvSpPr>
        <p:spPr>
          <a:xfrm>
            <a:off x="6477120" y="1522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8"/>
          <p:cNvSpPr/>
          <p:nvPr/>
        </p:nvSpPr>
        <p:spPr>
          <a:xfrm>
            <a:off x="5292720" y="1522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2533680" y="2882880"/>
            <a:ext cx="407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0"/>
          <p:cNvSpPr/>
          <p:nvPr/>
        </p:nvSpPr>
        <p:spPr>
          <a:xfrm>
            <a:off x="2533680" y="2882880"/>
            <a:ext cx="407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1"/>
          <p:cNvSpPr/>
          <p:nvPr/>
        </p:nvSpPr>
        <p:spPr>
          <a:xfrm>
            <a:off x="2533680" y="2882880"/>
            <a:ext cx="407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1403280" y="62064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Black"/>
                <a:ea typeface="Arial"/>
              </a:rPr>
              <a:t>Compostos com ligações dupl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3"/>
          <p:cNvSpPr/>
          <p:nvPr/>
        </p:nvSpPr>
        <p:spPr>
          <a:xfrm>
            <a:off x="250920" y="1052640"/>
            <a:ext cx="864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Antes de seus nomes utilizam-se prefixos para indicar a posição de seus átomos ou radicai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4"/>
          <p:cNvSpPr/>
          <p:nvPr/>
        </p:nvSpPr>
        <p:spPr>
          <a:xfrm>
            <a:off x="250920" y="179064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Cis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 – Quando os radicais mais simples estiverem do mesmo l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5"/>
          <p:cNvSpPr/>
          <p:nvPr/>
        </p:nvSpPr>
        <p:spPr>
          <a:xfrm>
            <a:off x="250920" y="209556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Trans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 – Quando os radicais mais simples estiverem em lados opos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7" name="Object 16"/>
          <p:cNvGraphicFramePr/>
          <p:nvPr/>
        </p:nvGraphicFramePr>
        <p:xfrm>
          <a:off x="3059280" y="2577960"/>
          <a:ext cx="2376360" cy="85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8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59280" y="2577960"/>
                    <a:ext cx="237636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Object 17"/>
          <p:cNvGraphicFramePr/>
          <p:nvPr/>
        </p:nvGraphicFramePr>
        <p:xfrm>
          <a:off x="3071880" y="3424320"/>
          <a:ext cx="2360520" cy="249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0" name="Object 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71880" y="3424320"/>
                    <a:ext cx="2360520" cy="24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Rectangle 18"/>
          <p:cNvSpPr/>
          <p:nvPr/>
        </p:nvSpPr>
        <p:spPr>
          <a:xfrm>
            <a:off x="324000" y="4005360"/>
            <a:ext cx="8642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A orientação é sempre dada a partir do maior número atômico para átomos diferentes e de tamanho, quando os números atômicos forem iguais, para radicais. </a:t>
            </a:r>
            <a:r>
              <a:rPr b="0" lang="pt-BR" sz="2000" spc="-1" strike="noStrike">
                <a:solidFill>
                  <a:srgbClr val="ff0000"/>
                </a:solidFill>
                <a:latin typeface="Arial"/>
                <a:ea typeface="Arial"/>
              </a:rPr>
              <a:t>O prefixo 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  <a:ea typeface="Arial"/>
              </a:rPr>
              <a:t>cis-</a:t>
            </a:r>
            <a:r>
              <a:rPr b="0" lang="pt-BR" sz="2000" spc="-1" strike="noStrike">
                <a:solidFill>
                  <a:srgbClr val="ff0000"/>
                </a:solidFill>
                <a:latin typeface="Arial"/>
                <a:ea typeface="Arial"/>
              </a:rPr>
              <a:t> indica que as partes de maior prioridade estão em uma mesma parte de um plano imaginário que corta a molécula.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pt-BR" sz="2000" spc="-1" strike="noStrike">
                <a:solidFill>
                  <a:srgbClr val="00cc99"/>
                </a:solidFill>
                <a:latin typeface="Arial"/>
                <a:ea typeface="Arial"/>
              </a:rPr>
              <a:t>O prefixo </a:t>
            </a:r>
            <a:r>
              <a:rPr b="1" lang="pt-BR" sz="2000" spc="-1" strike="noStrike">
                <a:solidFill>
                  <a:srgbClr val="00cc99"/>
                </a:solidFill>
                <a:latin typeface="Arial"/>
                <a:ea typeface="Arial"/>
              </a:rPr>
              <a:t>trans-</a:t>
            </a:r>
            <a:r>
              <a:rPr b="0" lang="pt-BR" sz="2000" spc="-1" strike="noStrike">
                <a:solidFill>
                  <a:srgbClr val="00cc99"/>
                </a:solidFill>
                <a:latin typeface="Arial"/>
                <a:ea typeface="Arial"/>
              </a:rPr>
              <a:t> indica que as partes de maior prioridade estão em lados opostos da molécula.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0" y="154080"/>
            <a:ext cx="9144000" cy="4554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609480" y="90360"/>
            <a:ext cx="468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Isomeria Geomét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AutoShape 5">
            <a:hlinkClick r:id="" action="ppaction://hlinkshowjump?jump=previousslide"/>
          </p:cNvPr>
          <p:cNvSpPr/>
          <p:nvPr/>
        </p:nvSpPr>
        <p:spPr>
          <a:xfrm rot="16201800">
            <a:off x="112680" y="112320"/>
            <a:ext cx="459000" cy="38268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AutoShape 6">
            <a:hlinkClick r:id="" action="ppaction://hlinkshowjump?jump=nextslide"/>
          </p:cNvPr>
          <p:cNvSpPr/>
          <p:nvPr/>
        </p:nvSpPr>
        <p:spPr>
          <a:xfrm rot="5400000">
            <a:off x="8648640" y="419040"/>
            <a:ext cx="457200" cy="38088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7"/>
          <p:cNvSpPr/>
          <p:nvPr/>
        </p:nvSpPr>
        <p:spPr>
          <a:xfrm>
            <a:off x="6477120" y="1522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8"/>
          <p:cNvSpPr/>
          <p:nvPr/>
        </p:nvSpPr>
        <p:spPr>
          <a:xfrm>
            <a:off x="5292720" y="1522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9"/>
          <p:cNvSpPr/>
          <p:nvPr/>
        </p:nvSpPr>
        <p:spPr>
          <a:xfrm>
            <a:off x="2533680" y="2882880"/>
            <a:ext cx="407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10"/>
          <p:cNvSpPr/>
          <p:nvPr/>
        </p:nvSpPr>
        <p:spPr>
          <a:xfrm>
            <a:off x="2533680" y="2882880"/>
            <a:ext cx="407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11"/>
          <p:cNvSpPr/>
          <p:nvPr/>
        </p:nvSpPr>
        <p:spPr>
          <a:xfrm>
            <a:off x="2533680" y="2882880"/>
            <a:ext cx="407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12"/>
          <p:cNvSpPr/>
          <p:nvPr/>
        </p:nvSpPr>
        <p:spPr>
          <a:xfrm>
            <a:off x="1403280" y="62064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Black"/>
                <a:ea typeface="Arial"/>
              </a:rPr>
              <a:t>Compostos com ligações dupl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Group 43"/>
          <p:cNvGrpSpPr/>
          <p:nvPr/>
        </p:nvGrpSpPr>
        <p:grpSpPr>
          <a:xfrm>
            <a:off x="395280" y="1125360"/>
            <a:ext cx="4824000" cy="2519280"/>
            <a:chOff x="395280" y="1125360"/>
            <a:chExt cx="4824000" cy="2519280"/>
          </a:xfrm>
        </p:grpSpPr>
        <p:graphicFrame>
          <p:nvGraphicFramePr>
            <p:cNvPr id="243" name="Object 24"/>
            <p:cNvGraphicFramePr/>
            <p:nvPr/>
          </p:nvGraphicFramePr>
          <p:xfrm>
            <a:off x="395280" y="1125360"/>
            <a:ext cx="2499480" cy="1019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44" name="Object 2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95280" y="1125360"/>
                      <a:ext cx="2499480" cy="101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5" name="Object 25"/>
            <p:cNvGraphicFramePr/>
            <p:nvPr/>
          </p:nvGraphicFramePr>
          <p:xfrm>
            <a:off x="395280" y="2125080"/>
            <a:ext cx="2489400" cy="280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46" name="Object 2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95280" y="2125080"/>
                      <a:ext cx="2489400" cy="28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7" name="Object 26"/>
            <p:cNvGraphicFramePr/>
            <p:nvPr/>
          </p:nvGraphicFramePr>
          <p:xfrm>
            <a:off x="408960" y="2418480"/>
            <a:ext cx="2490840" cy="10234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48" name="Object 2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08960" y="2418480"/>
                      <a:ext cx="2490840" cy="102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9" name="Object 27"/>
            <p:cNvGraphicFramePr/>
            <p:nvPr/>
          </p:nvGraphicFramePr>
          <p:xfrm>
            <a:off x="408960" y="3364560"/>
            <a:ext cx="2487600" cy="2800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50" name="Object 2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08960" y="3364560"/>
                      <a:ext cx="2487600" cy="28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1" name="Object 32"/>
            <p:cNvGraphicFramePr/>
            <p:nvPr/>
          </p:nvGraphicFramePr>
          <p:xfrm>
            <a:off x="2881080" y="1125360"/>
            <a:ext cx="2338200" cy="25059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52" name="Object 32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881080" y="1125360"/>
                      <a:ext cx="2338200" cy="250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53" name="Group 44"/>
          <p:cNvGrpSpPr/>
          <p:nvPr/>
        </p:nvGrpSpPr>
        <p:grpSpPr>
          <a:xfrm>
            <a:off x="395280" y="3940200"/>
            <a:ext cx="4824000" cy="2368080"/>
            <a:chOff x="395280" y="3940200"/>
            <a:chExt cx="4824000" cy="2368080"/>
          </a:xfrm>
        </p:grpSpPr>
        <p:graphicFrame>
          <p:nvGraphicFramePr>
            <p:cNvPr id="254" name="Object 28"/>
            <p:cNvGraphicFramePr/>
            <p:nvPr/>
          </p:nvGraphicFramePr>
          <p:xfrm>
            <a:off x="398520" y="3951000"/>
            <a:ext cx="2532240" cy="9669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55" name="Object 28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98520" y="3951000"/>
                      <a:ext cx="2532240" cy="966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6" name="Object 29"/>
            <p:cNvGraphicFramePr/>
            <p:nvPr/>
          </p:nvGraphicFramePr>
          <p:xfrm>
            <a:off x="398520" y="4852800"/>
            <a:ext cx="2532240" cy="2260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57" name="Object 29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398520" y="4852800"/>
                      <a:ext cx="2532240" cy="22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8" name="Object 30"/>
            <p:cNvGraphicFramePr/>
            <p:nvPr/>
          </p:nvGraphicFramePr>
          <p:xfrm>
            <a:off x="402120" y="5075640"/>
            <a:ext cx="2537280" cy="9781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59" name="Object 30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402120" y="5075640"/>
                      <a:ext cx="2537280" cy="97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0" name="Object 31"/>
            <p:cNvGraphicFramePr/>
            <p:nvPr/>
          </p:nvGraphicFramePr>
          <p:xfrm>
            <a:off x="395280" y="6063120"/>
            <a:ext cx="2544480" cy="2451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61" name="Object 31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395280" y="6063120"/>
                      <a:ext cx="2544480" cy="24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2" name="Object 33"/>
            <p:cNvGraphicFramePr/>
            <p:nvPr/>
          </p:nvGraphicFramePr>
          <p:xfrm>
            <a:off x="2926080" y="3940200"/>
            <a:ext cx="2293200" cy="236808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263" name="Object 33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926080" y="3940200"/>
                      <a:ext cx="2293200" cy="236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64" name="Object 34"/>
          <p:cNvGraphicFramePr/>
          <p:nvPr/>
        </p:nvGraphicFramePr>
        <p:xfrm>
          <a:off x="5727600" y="3135240"/>
          <a:ext cx="2805120" cy="9572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65" name="Object 34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727600" y="3135240"/>
                    <a:ext cx="280512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Object 36"/>
          <p:cNvGraphicFramePr/>
          <p:nvPr/>
        </p:nvGraphicFramePr>
        <p:xfrm>
          <a:off x="5722920" y="4282920"/>
          <a:ext cx="2809800" cy="9781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67" name="Object 36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722920" y="4282920"/>
                    <a:ext cx="2809800" cy="9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Rectangle 38"/>
          <p:cNvSpPr/>
          <p:nvPr/>
        </p:nvSpPr>
        <p:spPr>
          <a:xfrm>
            <a:off x="5605560" y="1916280"/>
            <a:ext cx="338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Escreva o nome e diferencie os isômeros geométricos abaix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9" name="Object 39"/>
          <p:cNvGraphicFramePr/>
          <p:nvPr/>
        </p:nvGraphicFramePr>
        <p:xfrm>
          <a:off x="5727600" y="4083120"/>
          <a:ext cx="2805120" cy="2095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70" name="Object 39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727600" y="4083120"/>
                    <a:ext cx="2805120" cy="20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Object 40"/>
          <p:cNvGraphicFramePr/>
          <p:nvPr/>
        </p:nvGraphicFramePr>
        <p:xfrm>
          <a:off x="5722920" y="5264280"/>
          <a:ext cx="2809800" cy="2109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72" name="Object 40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722920" y="5264280"/>
                    <a:ext cx="2809800" cy="21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/>
          <p:cNvSpPr/>
          <p:nvPr/>
        </p:nvSpPr>
        <p:spPr>
          <a:xfrm>
            <a:off x="0" y="154080"/>
            <a:ext cx="9144000" cy="4554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609480" y="90360"/>
            <a:ext cx="468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Isomeria Geomét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5">
            <a:hlinkClick r:id="" action="ppaction://hlinkshowjump?jump=previousslide"/>
          </p:cNvPr>
          <p:cNvSpPr/>
          <p:nvPr/>
        </p:nvSpPr>
        <p:spPr>
          <a:xfrm rot="16201800">
            <a:off x="112680" y="112320"/>
            <a:ext cx="459000" cy="38268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AutoShape 6">
            <a:hlinkClick r:id="" action="ppaction://hlinkshowjump?jump=nextslide"/>
          </p:cNvPr>
          <p:cNvSpPr/>
          <p:nvPr/>
        </p:nvSpPr>
        <p:spPr>
          <a:xfrm rot="5400000">
            <a:off x="8648640" y="419040"/>
            <a:ext cx="457200" cy="38088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7"/>
          <p:cNvSpPr/>
          <p:nvPr/>
        </p:nvSpPr>
        <p:spPr>
          <a:xfrm>
            <a:off x="6477120" y="1522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8"/>
          <p:cNvSpPr/>
          <p:nvPr/>
        </p:nvSpPr>
        <p:spPr>
          <a:xfrm>
            <a:off x="5292720" y="1522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9"/>
          <p:cNvSpPr/>
          <p:nvPr/>
        </p:nvSpPr>
        <p:spPr>
          <a:xfrm>
            <a:off x="2533680" y="2882880"/>
            <a:ext cx="407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10"/>
          <p:cNvSpPr/>
          <p:nvPr/>
        </p:nvSpPr>
        <p:spPr>
          <a:xfrm>
            <a:off x="2533680" y="2882880"/>
            <a:ext cx="407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11"/>
          <p:cNvSpPr/>
          <p:nvPr/>
        </p:nvSpPr>
        <p:spPr>
          <a:xfrm>
            <a:off x="2533680" y="2882880"/>
            <a:ext cx="407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12"/>
          <p:cNvSpPr/>
          <p:nvPr/>
        </p:nvSpPr>
        <p:spPr>
          <a:xfrm>
            <a:off x="2482920" y="62064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Black"/>
                <a:ea typeface="Arial"/>
              </a:rPr>
              <a:t>Compostos Cícl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13"/>
          <p:cNvSpPr/>
          <p:nvPr/>
        </p:nvSpPr>
        <p:spPr>
          <a:xfrm>
            <a:off x="250920" y="105264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Possuem isomeria geométrica sem a necessidade de uma ligação dupl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4" name="Object 19"/>
          <p:cNvGraphicFramePr/>
          <p:nvPr/>
        </p:nvGraphicFramePr>
        <p:xfrm>
          <a:off x="179280" y="1676520"/>
          <a:ext cx="4248360" cy="1968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5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1676520"/>
                    <a:ext cx="4248360" cy="19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Rectangle 20"/>
          <p:cNvSpPr/>
          <p:nvPr/>
        </p:nvSpPr>
        <p:spPr>
          <a:xfrm>
            <a:off x="4643280" y="1557360"/>
            <a:ext cx="4178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A regra para determinar quem é 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cis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 e quem é 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trans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 é a mesma dos compostos acíclicos: traçar uma linha imaginária entre os carbonos onde há isomeria geométrica e observar, pelas prioridades, quem é cis e tran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7" name="Object 21"/>
          <p:cNvGraphicFramePr/>
          <p:nvPr/>
        </p:nvGraphicFramePr>
        <p:xfrm>
          <a:off x="755640" y="3997440"/>
          <a:ext cx="2879640" cy="153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8" name="Object 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5640" y="3997440"/>
                    <a:ext cx="2879640" cy="15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" name="Object 22"/>
          <p:cNvGraphicFramePr/>
          <p:nvPr/>
        </p:nvGraphicFramePr>
        <p:xfrm>
          <a:off x="755640" y="5535720"/>
          <a:ext cx="2879640" cy="20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0" name="Object 2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5640" y="5535720"/>
                    <a:ext cx="287964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" name="Object 23"/>
          <p:cNvGraphicFramePr/>
          <p:nvPr/>
        </p:nvGraphicFramePr>
        <p:xfrm>
          <a:off x="4716360" y="4005360"/>
          <a:ext cx="2906640" cy="1514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2" name="Object 2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16360" y="4005360"/>
                    <a:ext cx="2906640" cy="15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Object 24"/>
          <p:cNvGraphicFramePr/>
          <p:nvPr/>
        </p:nvGraphicFramePr>
        <p:xfrm>
          <a:off x="4716360" y="5510160"/>
          <a:ext cx="2906640" cy="209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4" name="Object 2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716360" y="5510160"/>
                    <a:ext cx="2906640" cy="20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0" y="154080"/>
            <a:ext cx="9144000" cy="4554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609480" y="90360"/>
            <a:ext cx="468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Isomeria Geomét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AutoShape 5">
            <a:hlinkClick r:id="" action="ppaction://hlinkshowjump?jump=previousslide"/>
          </p:cNvPr>
          <p:cNvSpPr/>
          <p:nvPr/>
        </p:nvSpPr>
        <p:spPr>
          <a:xfrm rot="16201800">
            <a:off x="112680" y="112320"/>
            <a:ext cx="459000" cy="38268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AutoShape 6">
            <a:hlinkClick r:id="" action="ppaction://hlinkshowjump?jump=nextslide"/>
          </p:cNvPr>
          <p:cNvSpPr/>
          <p:nvPr/>
        </p:nvSpPr>
        <p:spPr>
          <a:xfrm rot="5400000">
            <a:off x="8648640" y="419040"/>
            <a:ext cx="457200" cy="38088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7"/>
          <p:cNvSpPr/>
          <p:nvPr/>
        </p:nvSpPr>
        <p:spPr>
          <a:xfrm>
            <a:off x="6477120" y="1522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8"/>
          <p:cNvSpPr/>
          <p:nvPr/>
        </p:nvSpPr>
        <p:spPr>
          <a:xfrm>
            <a:off x="5292720" y="1522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9"/>
          <p:cNvSpPr/>
          <p:nvPr/>
        </p:nvSpPr>
        <p:spPr>
          <a:xfrm>
            <a:off x="2533680" y="2882880"/>
            <a:ext cx="407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10"/>
          <p:cNvSpPr/>
          <p:nvPr/>
        </p:nvSpPr>
        <p:spPr>
          <a:xfrm>
            <a:off x="2533680" y="2882880"/>
            <a:ext cx="407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11"/>
          <p:cNvSpPr/>
          <p:nvPr/>
        </p:nvSpPr>
        <p:spPr>
          <a:xfrm>
            <a:off x="2533680" y="2882880"/>
            <a:ext cx="407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2"/>
          <p:cNvSpPr/>
          <p:nvPr/>
        </p:nvSpPr>
        <p:spPr>
          <a:xfrm>
            <a:off x="2482920" y="62064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Black"/>
                <a:ea typeface="Arial"/>
              </a:rPr>
              <a:t>Compostos Cícl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5" name="Object 20"/>
          <p:cNvGraphicFramePr/>
          <p:nvPr/>
        </p:nvGraphicFramePr>
        <p:xfrm>
          <a:off x="684360" y="2913120"/>
          <a:ext cx="3098520" cy="2097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6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2913120"/>
                    <a:ext cx="3098520" cy="20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Object 21"/>
          <p:cNvGraphicFramePr/>
          <p:nvPr/>
        </p:nvGraphicFramePr>
        <p:xfrm>
          <a:off x="684360" y="5000760"/>
          <a:ext cx="3097080" cy="444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8" name="Object 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360" y="5000760"/>
                    <a:ext cx="309708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Object 22"/>
          <p:cNvGraphicFramePr/>
          <p:nvPr/>
        </p:nvGraphicFramePr>
        <p:xfrm>
          <a:off x="4987800" y="2921040"/>
          <a:ext cx="2970360" cy="2076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0" name="Object 2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87800" y="2921040"/>
                    <a:ext cx="2970360" cy="20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" name="Object 23"/>
          <p:cNvGraphicFramePr/>
          <p:nvPr/>
        </p:nvGraphicFramePr>
        <p:xfrm>
          <a:off x="4983120" y="5000760"/>
          <a:ext cx="2975040" cy="430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2" name="Object 2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983120" y="5000760"/>
                    <a:ext cx="297504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Rectangle 24"/>
          <p:cNvSpPr/>
          <p:nvPr/>
        </p:nvSpPr>
        <p:spPr>
          <a:xfrm>
            <a:off x="801720" y="1519200"/>
            <a:ext cx="7226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Escreva o nome e diferencie os isômeros geométricos abaix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0" y="154080"/>
            <a:ext cx="9144000" cy="4554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609480" y="90360"/>
            <a:ext cx="468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Isomeria Óp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AutoShape 5">
            <a:hlinkClick r:id="" action="ppaction://hlinkshowjump?jump=previousslide"/>
          </p:cNvPr>
          <p:cNvSpPr/>
          <p:nvPr/>
        </p:nvSpPr>
        <p:spPr>
          <a:xfrm rot="16201800">
            <a:off x="112680" y="112320"/>
            <a:ext cx="459000" cy="38268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AutoShape 6">
            <a:hlinkClick r:id="" action="ppaction://hlinkshowjump?jump=nextslide"/>
          </p:cNvPr>
          <p:cNvSpPr/>
          <p:nvPr/>
        </p:nvSpPr>
        <p:spPr>
          <a:xfrm rot="5400000">
            <a:off x="8648640" y="419040"/>
            <a:ext cx="457200" cy="38088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7"/>
          <p:cNvSpPr/>
          <p:nvPr/>
        </p:nvSpPr>
        <p:spPr>
          <a:xfrm>
            <a:off x="6477120" y="1522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8"/>
          <p:cNvSpPr/>
          <p:nvPr/>
        </p:nvSpPr>
        <p:spPr>
          <a:xfrm>
            <a:off x="5292720" y="1522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9"/>
          <p:cNvSpPr/>
          <p:nvPr/>
        </p:nvSpPr>
        <p:spPr>
          <a:xfrm>
            <a:off x="2533680" y="2882880"/>
            <a:ext cx="407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10"/>
          <p:cNvSpPr/>
          <p:nvPr/>
        </p:nvSpPr>
        <p:spPr>
          <a:xfrm>
            <a:off x="2533680" y="2882880"/>
            <a:ext cx="407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11"/>
          <p:cNvSpPr/>
          <p:nvPr/>
        </p:nvSpPr>
        <p:spPr>
          <a:xfrm>
            <a:off x="2533680" y="2882880"/>
            <a:ext cx="407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12"/>
          <p:cNvSpPr/>
          <p:nvPr/>
        </p:nvSpPr>
        <p:spPr>
          <a:xfrm>
            <a:off x="468360" y="692280"/>
            <a:ext cx="8207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Monotype Corsiva"/>
              </a:rPr>
              <a:t>Todos os isômeros possuem propriedades físicas diferentes, tais como PF, PE e densidade, mas os isômeros ópticos não possuem esta diferença, ou seja, as propriedades físicas dos isômeros ópticos são as mesmas. Então o que faz eles serem diferentes?</a:t>
            </a:r>
            <a:br>
              <a:rPr sz="2800"/>
            </a:br>
            <a:r>
              <a:rPr b="1" lang="pt-BR" sz="2800" spc="-1" strike="noStrike">
                <a:solidFill>
                  <a:srgbClr val="ffffff"/>
                </a:solidFill>
                <a:latin typeface="Monotype Corsiva"/>
              </a:rPr>
              <a:t>É possível diferenciá-los?</a:t>
            </a:r>
            <a:br>
              <a:rPr sz="2800"/>
            </a:br>
            <a:br>
              <a:rPr sz="2800"/>
            </a:br>
            <a:r>
              <a:rPr b="1" lang="pt-BR" sz="2800" spc="-1" strike="noStrike">
                <a:solidFill>
                  <a:srgbClr val="ffffff"/>
                </a:solidFill>
                <a:latin typeface="Monotype Corsiva"/>
              </a:rPr>
              <a:t>Sim, é possível diferenciá-los, mas apenas quando eles estão frente à luz polariz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4" name="Object 18"/>
          <p:cNvGraphicFramePr/>
          <p:nvPr/>
        </p:nvGraphicFramePr>
        <p:xfrm>
          <a:off x="1619280" y="4202280"/>
          <a:ext cx="5329080" cy="124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5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19280" y="4202280"/>
                    <a:ext cx="5329080" cy="12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Text Box 19"/>
          <p:cNvSpPr/>
          <p:nvPr/>
        </p:nvSpPr>
        <p:spPr>
          <a:xfrm>
            <a:off x="539640" y="5564160"/>
            <a:ext cx="820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Monotype Corsiva"/>
              </a:rPr>
              <a:t>Os isômeros ópticos são compostos capazes de desviar a luz polarizada.</a:t>
            </a:r>
            <a:r>
              <a:rPr b="0" lang="pt-BR" sz="28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0" y="154080"/>
            <a:ext cx="9144000" cy="4554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3"/>
          <p:cNvSpPr/>
          <p:nvPr/>
        </p:nvSpPr>
        <p:spPr>
          <a:xfrm>
            <a:off x="609480" y="90360"/>
            <a:ext cx="468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Isomeria Óp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AutoShape 5">
            <a:hlinkClick r:id="" action="ppaction://hlinkshowjump?jump=previousslide"/>
          </p:cNvPr>
          <p:cNvSpPr/>
          <p:nvPr/>
        </p:nvSpPr>
        <p:spPr>
          <a:xfrm rot="16201800">
            <a:off x="112680" y="112320"/>
            <a:ext cx="459000" cy="38268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AutoShape 6">
            <a:hlinkClick r:id="" action="ppaction://hlinkshowjump?jump=nextslide"/>
          </p:cNvPr>
          <p:cNvSpPr/>
          <p:nvPr/>
        </p:nvSpPr>
        <p:spPr>
          <a:xfrm rot="5400000">
            <a:off x="8648640" y="419040"/>
            <a:ext cx="457200" cy="38088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7"/>
          <p:cNvSpPr/>
          <p:nvPr/>
        </p:nvSpPr>
        <p:spPr>
          <a:xfrm>
            <a:off x="6477120" y="1522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8"/>
          <p:cNvSpPr/>
          <p:nvPr/>
        </p:nvSpPr>
        <p:spPr>
          <a:xfrm>
            <a:off x="5292720" y="1522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9"/>
          <p:cNvSpPr/>
          <p:nvPr/>
        </p:nvSpPr>
        <p:spPr>
          <a:xfrm>
            <a:off x="2533680" y="2882880"/>
            <a:ext cx="407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10"/>
          <p:cNvSpPr/>
          <p:nvPr/>
        </p:nvSpPr>
        <p:spPr>
          <a:xfrm>
            <a:off x="2533680" y="2882880"/>
            <a:ext cx="407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11"/>
          <p:cNvSpPr/>
          <p:nvPr/>
        </p:nvSpPr>
        <p:spPr>
          <a:xfrm>
            <a:off x="2533680" y="2882880"/>
            <a:ext cx="407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12"/>
          <p:cNvSpPr/>
          <p:nvPr/>
        </p:nvSpPr>
        <p:spPr>
          <a:xfrm>
            <a:off x="468360" y="2349360"/>
            <a:ext cx="820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Monotype Corsiva"/>
              </a:rPr>
              <a:t>Enantiômero Dextrógiro (D, +) </a:t>
            </a:r>
            <a:r>
              <a:rPr b="1" lang="pt-BR" sz="2800" spc="-1" strike="noStrike">
                <a:solidFill>
                  <a:srgbClr val="ffffff"/>
                </a:solidFill>
                <a:latin typeface="Monotype Corsiva"/>
              </a:rPr>
              <a:t> -  provoca o giro da luz polarizada para a direita.</a:t>
            </a:r>
            <a:r>
              <a:rPr b="0" lang="pt-BR" sz="28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7" name="Object 13"/>
          <p:cNvGraphicFramePr/>
          <p:nvPr/>
        </p:nvGraphicFramePr>
        <p:xfrm>
          <a:off x="1619280" y="836640"/>
          <a:ext cx="5329080" cy="124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8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19280" y="836640"/>
                    <a:ext cx="5329080" cy="12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Text Box 15"/>
          <p:cNvSpPr/>
          <p:nvPr/>
        </p:nvSpPr>
        <p:spPr>
          <a:xfrm>
            <a:off x="468360" y="3573360"/>
            <a:ext cx="820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Monotype Corsiva"/>
              </a:rPr>
              <a:t>Enantiômero Levógiro (L, -) </a:t>
            </a:r>
            <a:r>
              <a:rPr b="1" lang="pt-BR" sz="2800" spc="-1" strike="noStrike">
                <a:solidFill>
                  <a:srgbClr val="ffffff"/>
                </a:solidFill>
                <a:latin typeface="Monotype Corsiva"/>
              </a:rPr>
              <a:t> -  provoca o giro da luz polarizada para a esquerda.</a:t>
            </a:r>
            <a:r>
              <a:rPr b="0" lang="pt-BR" sz="28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16"/>
          <p:cNvSpPr/>
          <p:nvPr/>
        </p:nvSpPr>
        <p:spPr>
          <a:xfrm>
            <a:off x="468360" y="4859280"/>
            <a:ext cx="820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Monotype Corsiva"/>
              </a:rPr>
              <a:t>Mistura Racêmica </a:t>
            </a:r>
            <a:r>
              <a:rPr b="1" lang="pt-BR" sz="2800" spc="-1" strike="noStrike">
                <a:solidFill>
                  <a:srgbClr val="ffffff"/>
                </a:solidFill>
                <a:latin typeface="Monotype Corsiva"/>
              </a:rPr>
              <a:t>- ópticamente inativa (mistura de 50% de dextrógiro com 50% de levógi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2"/>
          <p:cNvSpPr/>
          <p:nvPr/>
        </p:nvSpPr>
        <p:spPr>
          <a:xfrm>
            <a:off x="0" y="154080"/>
            <a:ext cx="9144000" cy="4554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3"/>
          <p:cNvSpPr/>
          <p:nvPr/>
        </p:nvSpPr>
        <p:spPr>
          <a:xfrm>
            <a:off x="609480" y="90360"/>
            <a:ext cx="468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Isomeria Óp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AutoShape 5">
            <a:hlinkClick r:id="" action="ppaction://hlinkshowjump?jump=previousslide"/>
          </p:cNvPr>
          <p:cNvSpPr/>
          <p:nvPr/>
        </p:nvSpPr>
        <p:spPr>
          <a:xfrm rot="16201800">
            <a:off x="112680" y="112320"/>
            <a:ext cx="459000" cy="38268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AutoShape 6">
            <a:hlinkClick r:id="" action="ppaction://hlinkshowjump?jump=nextslide"/>
          </p:cNvPr>
          <p:cNvSpPr/>
          <p:nvPr/>
        </p:nvSpPr>
        <p:spPr>
          <a:xfrm rot="5400000">
            <a:off x="8648640" y="419040"/>
            <a:ext cx="457200" cy="38088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Line 7"/>
          <p:cNvSpPr/>
          <p:nvPr/>
        </p:nvSpPr>
        <p:spPr>
          <a:xfrm>
            <a:off x="6477120" y="1522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Line 8"/>
          <p:cNvSpPr/>
          <p:nvPr/>
        </p:nvSpPr>
        <p:spPr>
          <a:xfrm>
            <a:off x="5292720" y="1522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9"/>
          <p:cNvSpPr/>
          <p:nvPr/>
        </p:nvSpPr>
        <p:spPr>
          <a:xfrm>
            <a:off x="2533680" y="2882880"/>
            <a:ext cx="407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10"/>
          <p:cNvSpPr/>
          <p:nvPr/>
        </p:nvSpPr>
        <p:spPr>
          <a:xfrm>
            <a:off x="2533680" y="2882880"/>
            <a:ext cx="407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11"/>
          <p:cNvSpPr/>
          <p:nvPr/>
        </p:nvSpPr>
        <p:spPr>
          <a:xfrm>
            <a:off x="2533680" y="2882880"/>
            <a:ext cx="407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12"/>
          <p:cNvSpPr/>
          <p:nvPr/>
        </p:nvSpPr>
        <p:spPr>
          <a:xfrm>
            <a:off x="468360" y="692280"/>
            <a:ext cx="820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Monotype Corsiva"/>
              </a:rPr>
              <a:t>Condição para que um composto tenha atividade ópt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14"/>
          <p:cNvSpPr/>
          <p:nvPr/>
        </p:nvSpPr>
        <p:spPr>
          <a:xfrm>
            <a:off x="3995640" y="2108160"/>
            <a:ext cx="3313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Monotype Corsiva"/>
              </a:rPr>
              <a:t>O carbono quiral é marcado 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Monotype Corsiva"/>
              </a:rPr>
              <a:t>com um asterísco (*),este 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Monotype Corsiva"/>
              </a:rPr>
              <a:t>carbono possui todos os 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Monotype Corsiva"/>
              </a:rPr>
              <a:t>ligantes diferent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15"/>
          <p:cNvSpPr/>
          <p:nvPr/>
        </p:nvSpPr>
        <p:spPr>
          <a:xfrm>
            <a:off x="468360" y="1292400"/>
            <a:ext cx="82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Monotype Corsiva"/>
              </a:rPr>
              <a:t>Carbono assimétrico ou quiral ou estereocent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Picture 17" descr="1-cloro-1fluor-etano1"/>
          <p:cNvPicPr/>
          <p:nvPr/>
        </p:nvPicPr>
        <p:blipFill>
          <a:blip r:embed="rId3"/>
          <a:stretch/>
        </p:blipFill>
        <p:spPr>
          <a:xfrm>
            <a:off x="1308240" y="1820880"/>
            <a:ext cx="2400120" cy="231444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18"/>
          <p:cNvSpPr/>
          <p:nvPr/>
        </p:nvSpPr>
        <p:spPr>
          <a:xfrm>
            <a:off x="2509920" y="23256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Picture 20" descr="espelho1"/>
          <p:cNvPicPr/>
          <p:nvPr/>
        </p:nvPicPr>
        <p:blipFill>
          <a:blip r:embed="rId4"/>
          <a:stretch/>
        </p:blipFill>
        <p:spPr>
          <a:xfrm>
            <a:off x="1258920" y="4292640"/>
            <a:ext cx="2571840" cy="225756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21"/>
          <p:cNvSpPr/>
          <p:nvPr/>
        </p:nvSpPr>
        <p:spPr>
          <a:xfrm>
            <a:off x="3995640" y="4508640"/>
            <a:ext cx="4753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Monotype Corsiva"/>
              </a:rPr>
              <a:t>Nos compostos enantioméricos, um é a imagem especular do outro, ou seja, um é a imagem refletida do outro. No entanto, eles não são superponíveis.</a:t>
            </a:r>
            <a:r>
              <a:rPr b="0" lang="pt-BR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500"/>
                            </p:stCondLst>
                            <p:childTnLst>
                              <p:par>
                                <p:cTn id="212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3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0" y="154080"/>
            <a:ext cx="9144000" cy="4554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609480" y="90360"/>
            <a:ext cx="468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Concei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5">
            <a:hlinkClick r:id="" action="ppaction://hlinkshowjump?jump=previousslide"/>
          </p:cNvPr>
          <p:cNvSpPr/>
          <p:nvPr/>
        </p:nvSpPr>
        <p:spPr>
          <a:xfrm rot="16201800">
            <a:off x="112680" y="112320"/>
            <a:ext cx="459000" cy="38268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7">
            <a:hlinkClick r:id="" action="ppaction://hlinkshowjump?jump=nextslide"/>
          </p:cNvPr>
          <p:cNvSpPr/>
          <p:nvPr/>
        </p:nvSpPr>
        <p:spPr>
          <a:xfrm rot="5400000">
            <a:off x="8648640" y="419040"/>
            <a:ext cx="457200" cy="38088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8"/>
          <p:cNvSpPr/>
          <p:nvPr/>
        </p:nvSpPr>
        <p:spPr>
          <a:xfrm>
            <a:off x="6477120" y="1522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9"/>
          <p:cNvSpPr/>
          <p:nvPr/>
        </p:nvSpPr>
        <p:spPr>
          <a:xfrm>
            <a:off x="5292720" y="1522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0"/>
          <p:cNvSpPr/>
          <p:nvPr/>
        </p:nvSpPr>
        <p:spPr>
          <a:xfrm>
            <a:off x="2533680" y="2882880"/>
            <a:ext cx="407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11"/>
          <p:cNvSpPr/>
          <p:nvPr/>
        </p:nvSpPr>
        <p:spPr>
          <a:xfrm>
            <a:off x="2533680" y="2882880"/>
            <a:ext cx="407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2533680" y="2882880"/>
            <a:ext cx="407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03"/>
          <p:cNvSpPr/>
          <p:nvPr/>
        </p:nvSpPr>
        <p:spPr>
          <a:xfrm>
            <a:off x="179280" y="1179360"/>
            <a:ext cx="85694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É o fenômeno através do qual dois ou mais compostos apresentam mesma fórmula molecular e propriedades diferentes em virtude da disposição diferente dos átomos na molécul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2"/>
          <p:cNvSpPr/>
          <p:nvPr/>
        </p:nvSpPr>
        <p:spPr>
          <a:xfrm>
            <a:off x="0" y="154080"/>
            <a:ext cx="9144000" cy="4554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609480" y="90360"/>
            <a:ext cx="468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Isomeria Óp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AutoShape 5">
            <a:hlinkClick r:id="" action="ppaction://hlinkshowjump?jump=previousslide"/>
          </p:cNvPr>
          <p:cNvSpPr/>
          <p:nvPr/>
        </p:nvSpPr>
        <p:spPr>
          <a:xfrm rot="16201800">
            <a:off x="112680" y="112320"/>
            <a:ext cx="459000" cy="38268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AutoShape 6">
            <a:hlinkClick r:id="" action="ppaction://hlinkshowjump?jump=nextslide"/>
          </p:cNvPr>
          <p:cNvSpPr/>
          <p:nvPr/>
        </p:nvSpPr>
        <p:spPr>
          <a:xfrm rot="5400000">
            <a:off x="8648640" y="419040"/>
            <a:ext cx="457200" cy="38088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7"/>
          <p:cNvSpPr/>
          <p:nvPr/>
        </p:nvSpPr>
        <p:spPr>
          <a:xfrm>
            <a:off x="6477120" y="1522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8"/>
          <p:cNvSpPr/>
          <p:nvPr/>
        </p:nvSpPr>
        <p:spPr>
          <a:xfrm>
            <a:off x="5292720" y="1522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9"/>
          <p:cNvSpPr/>
          <p:nvPr/>
        </p:nvSpPr>
        <p:spPr>
          <a:xfrm>
            <a:off x="2533680" y="2882880"/>
            <a:ext cx="407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10"/>
          <p:cNvSpPr/>
          <p:nvPr/>
        </p:nvSpPr>
        <p:spPr>
          <a:xfrm>
            <a:off x="2533680" y="2882880"/>
            <a:ext cx="407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11"/>
          <p:cNvSpPr/>
          <p:nvPr/>
        </p:nvSpPr>
        <p:spPr>
          <a:xfrm>
            <a:off x="2533680" y="2882880"/>
            <a:ext cx="407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12"/>
          <p:cNvSpPr/>
          <p:nvPr/>
        </p:nvSpPr>
        <p:spPr>
          <a:xfrm>
            <a:off x="324000" y="96516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ffffff"/>
                </a:solidFill>
                <a:uFillTx/>
                <a:latin typeface="Monotype Corsiva"/>
              </a:rPr>
              <a:t>Determinação do número de isômeros ópticos (lei de van't Hoff)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 </a:t>
            </a:r>
            <a:r>
              <a:rPr b="1" lang="pt-BR" sz="2800" spc="-1" strike="noStrike" u="sng">
                <a:solidFill>
                  <a:srgbClr val="ffffff"/>
                </a:solidFill>
                <a:uFillTx/>
                <a:latin typeface="Monotype Corsiv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14"/>
          <p:cNvSpPr/>
          <p:nvPr/>
        </p:nvSpPr>
        <p:spPr>
          <a:xfrm>
            <a:off x="468360" y="1768320"/>
            <a:ext cx="8207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Monotype Corsiva"/>
              </a:rPr>
              <a:t>Compostos com 1C* </a:t>
            </a:r>
            <a:r>
              <a:rPr b="1" lang="pt-BR" sz="2400" spc="-1" strike="noStrike">
                <a:solidFill>
                  <a:srgbClr val="ffffff"/>
                </a:solidFill>
                <a:latin typeface="Monotype Corsiva"/>
              </a:rPr>
              <a:t>- Um isômero dextrógiro, um levógiro e um racêmico (formado por quantidades equimolares do dextrógiro e levógiro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Monotype Corsiva"/>
              </a:rPr>
              <a:t>Compostos com 2C* diferentes </a:t>
            </a:r>
            <a:r>
              <a:rPr b="1" lang="pt-BR" sz="2400" spc="-1" strike="noStrike">
                <a:solidFill>
                  <a:srgbClr val="ffffff"/>
                </a:solidFill>
                <a:latin typeface="Monotype Corsiva"/>
              </a:rPr>
              <a:t>- Dois isômeros dextrógiros, dois isômeros levógiros, formando dois pares de antípodas ópticos e dois racêmic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Monotype Corsiva"/>
              </a:rPr>
              <a:t>Compostos com 2C* iguais </a:t>
            </a:r>
            <a:r>
              <a:rPr b="1" lang="pt-BR" sz="2400" spc="-1" strike="noStrike">
                <a:solidFill>
                  <a:srgbClr val="ffffff"/>
                </a:solidFill>
                <a:latin typeface="Monotype Corsiva"/>
              </a:rPr>
              <a:t>- Um isômero levógiro, um dextrógiro, um racêmico e um meso ou mesógiro (inativo por compensação interna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Monotype Corsiva"/>
              </a:rPr>
              <a:t>Compostos com nC* diferentes </a:t>
            </a:r>
            <a:r>
              <a:rPr b="1" lang="pt-BR" sz="2400" spc="-1" strike="noStrike">
                <a:solidFill>
                  <a:srgbClr val="ffffff"/>
                </a:solidFill>
                <a:latin typeface="Monotype Corsiva"/>
              </a:rPr>
              <a:t>- 2</a:t>
            </a:r>
            <a:r>
              <a:rPr b="1" lang="pt-BR" sz="2400" spc="-1" strike="noStrike" baseline="30000">
                <a:solidFill>
                  <a:srgbClr val="ffffff"/>
                </a:solidFill>
                <a:latin typeface="Monotype Corsiva"/>
              </a:rPr>
              <a:t>n</a:t>
            </a:r>
            <a:r>
              <a:rPr b="1" lang="pt-BR" sz="2400" spc="-1" strike="noStrike">
                <a:solidFill>
                  <a:srgbClr val="ffffff"/>
                </a:solidFill>
                <a:latin typeface="Monotype Corsiva"/>
              </a:rPr>
              <a:t> isômeros opticamente ativos, sendo 2</a:t>
            </a:r>
            <a:r>
              <a:rPr b="1" lang="pt-BR" sz="2400" spc="-1" strike="noStrike" baseline="30000">
                <a:solidFill>
                  <a:srgbClr val="ffffff"/>
                </a:solidFill>
                <a:latin typeface="Monotype Corsiva"/>
              </a:rPr>
              <a:t>n-1</a:t>
            </a:r>
            <a:r>
              <a:rPr b="1" lang="pt-BR" sz="2400" spc="-1" strike="noStrike">
                <a:solidFill>
                  <a:srgbClr val="ffffff"/>
                </a:solidFill>
                <a:latin typeface="Monotype Corsiva"/>
              </a:rPr>
              <a:t> dextrógiros, 2</a:t>
            </a:r>
            <a:r>
              <a:rPr b="1" lang="pt-BR" sz="2400" spc="-1" strike="noStrike" baseline="30000">
                <a:solidFill>
                  <a:srgbClr val="ffffff"/>
                </a:solidFill>
                <a:latin typeface="Monotype Corsiva"/>
              </a:rPr>
              <a:t>n-1</a:t>
            </a:r>
            <a:r>
              <a:rPr b="1" lang="pt-BR" sz="2400" spc="-1" strike="noStrike">
                <a:solidFill>
                  <a:srgbClr val="ffffff"/>
                </a:solidFill>
                <a:latin typeface="Monotype Corsiva"/>
              </a:rPr>
              <a:t> levógiros e 2</a:t>
            </a:r>
            <a:r>
              <a:rPr b="1" lang="pt-BR" sz="2400" spc="-1" strike="noStrike" baseline="30000">
                <a:solidFill>
                  <a:srgbClr val="ffffff"/>
                </a:solidFill>
                <a:latin typeface="Monotype Corsiva"/>
              </a:rPr>
              <a:t>n-1</a:t>
            </a:r>
            <a:r>
              <a:rPr b="1" lang="pt-BR" sz="2400" spc="-1" strike="noStrike">
                <a:solidFill>
                  <a:srgbClr val="ffffff"/>
                </a:solidFill>
                <a:latin typeface="Monotype Corsiva"/>
              </a:rPr>
              <a:t> racêmic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0" y="154080"/>
            <a:ext cx="9144000" cy="4554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609480" y="90360"/>
            <a:ext cx="468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Isomeria Óp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AutoShape 5">
            <a:hlinkClick r:id="" action="ppaction://hlinkshowjump?jump=previousslide"/>
          </p:cNvPr>
          <p:cNvSpPr/>
          <p:nvPr/>
        </p:nvSpPr>
        <p:spPr>
          <a:xfrm rot="16201800">
            <a:off x="112680" y="112320"/>
            <a:ext cx="459000" cy="38268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AutoShape 6">
            <a:hlinkClick r:id="" action="ppaction://hlinkshowjump?jump=nextslide"/>
          </p:cNvPr>
          <p:cNvSpPr/>
          <p:nvPr/>
        </p:nvSpPr>
        <p:spPr>
          <a:xfrm rot="5400000">
            <a:off x="8648640" y="419040"/>
            <a:ext cx="457200" cy="38088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7"/>
          <p:cNvSpPr/>
          <p:nvPr/>
        </p:nvSpPr>
        <p:spPr>
          <a:xfrm>
            <a:off x="6477120" y="1522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8"/>
          <p:cNvSpPr/>
          <p:nvPr/>
        </p:nvSpPr>
        <p:spPr>
          <a:xfrm>
            <a:off x="5292720" y="1522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9"/>
          <p:cNvSpPr/>
          <p:nvPr/>
        </p:nvSpPr>
        <p:spPr>
          <a:xfrm>
            <a:off x="2533680" y="2882880"/>
            <a:ext cx="407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10"/>
          <p:cNvSpPr/>
          <p:nvPr/>
        </p:nvSpPr>
        <p:spPr>
          <a:xfrm>
            <a:off x="2533680" y="2882880"/>
            <a:ext cx="407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11"/>
          <p:cNvSpPr/>
          <p:nvPr/>
        </p:nvSpPr>
        <p:spPr>
          <a:xfrm>
            <a:off x="2533680" y="2882880"/>
            <a:ext cx="407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12"/>
          <p:cNvSpPr/>
          <p:nvPr/>
        </p:nvSpPr>
        <p:spPr>
          <a:xfrm>
            <a:off x="324000" y="96516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bre a molécula do 3-metil-2-pentanol, respon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14"/>
          <p:cNvSpPr/>
          <p:nvPr/>
        </p:nvSpPr>
        <p:spPr>
          <a:xfrm>
            <a:off x="181080" y="3692520"/>
            <a:ext cx="83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) Quantos enantiomorfos possui a molécul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15"/>
          <p:cNvSpPr/>
          <p:nvPr/>
        </p:nvSpPr>
        <p:spPr>
          <a:xfrm>
            <a:off x="179280" y="5157720"/>
            <a:ext cx="835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) Quantos enantiomorfos levógiros possui a molécul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Picture 17" descr="2esteriocentros"/>
          <p:cNvPicPr/>
          <p:nvPr/>
        </p:nvPicPr>
        <p:blipFill>
          <a:blip r:embed="rId3"/>
          <a:stretch/>
        </p:blipFill>
        <p:spPr>
          <a:xfrm>
            <a:off x="2124000" y="1670040"/>
            <a:ext cx="3240000" cy="161460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18"/>
          <p:cNvSpPr/>
          <p:nvPr/>
        </p:nvSpPr>
        <p:spPr>
          <a:xfrm>
            <a:off x="5650200" y="2203920"/>
            <a:ext cx="22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2 estereocent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19"/>
          <p:cNvSpPr/>
          <p:nvPr/>
        </p:nvSpPr>
        <p:spPr>
          <a:xfrm>
            <a:off x="484920" y="4339080"/>
            <a:ext cx="13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IOA = 2</a:t>
            </a:r>
            <a:r>
              <a:rPr b="0" lang="pt-BR" sz="2400" spc="-1" strike="noStrike" baseline="30000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20"/>
          <p:cNvSpPr/>
          <p:nvPr/>
        </p:nvSpPr>
        <p:spPr>
          <a:xfrm>
            <a:off x="1740960" y="4351680"/>
            <a:ext cx="12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= 2</a:t>
            </a:r>
            <a:r>
              <a:rPr b="0" lang="pt-BR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 = 4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21"/>
          <p:cNvSpPr/>
          <p:nvPr/>
        </p:nvSpPr>
        <p:spPr>
          <a:xfrm>
            <a:off x="3129480" y="4329720"/>
            <a:ext cx="32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4 isômeros ópticos 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22"/>
          <p:cNvSpPr/>
          <p:nvPr/>
        </p:nvSpPr>
        <p:spPr>
          <a:xfrm>
            <a:off x="487440" y="563472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IOA(-) = 2</a:t>
            </a:r>
            <a:r>
              <a:rPr b="0" lang="pt-BR" sz="2400" spc="-1" strike="noStrike" baseline="30000">
                <a:solidFill>
                  <a:srgbClr val="ffff00"/>
                </a:solidFill>
                <a:latin typeface="Times New Roman"/>
              </a:rPr>
              <a:t>n-1</a:t>
            </a: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23"/>
          <p:cNvSpPr/>
          <p:nvPr/>
        </p:nvSpPr>
        <p:spPr>
          <a:xfrm>
            <a:off x="2199600" y="5634720"/>
            <a:ext cx="137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= 2</a:t>
            </a:r>
            <a:r>
              <a:rPr b="0" lang="pt-BR" sz="2400" spc="-1" strike="noStrike" baseline="30000">
                <a:solidFill>
                  <a:srgbClr val="ffff00"/>
                </a:solidFill>
                <a:latin typeface="Times New Roman"/>
              </a:rPr>
              <a:t>2-1</a:t>
            </a: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 = 2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24"/>
          <p:cNvSpPr/>
          <p:nvPr/>
        </p:nvSpPr>
        <p:spPr>
          <a:xfrm>
            <a:off x="3922920" y="5634720"/>
            <a:ext cx="27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2 isômeros levógi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0" y="154080"/>
            <a:ext cx="9144000" cy="4554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609480" y="90360"/>
            <a:ext cx="468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Concei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5">
            <a:hlinkClick r:id="" action="ppaction://hlinkshowjump?jump=previousslide"/>
          </p:cNvPr>
          <p:cNvSpPr/>
          <p:nvPr/>
        </p:nvSpPr>
        <p:spPr>
          <a:xfrm rot="16201800">
            <a:off x="112680" y="112320"/>
            <a:ext cx="459000" cy="38268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6">
            <a:hlinkClick r:id="" action="ppaction://hlinkshowjump?jump=nextslide"/>
          </p:cNvPr>
          <p:cNvSpPr/>
          <p:nvPr/>
        </p:nvSpPr>
        <p:spPr>
          <a:xfrm rot="5400000">
            <a:off x="8648640" y="419040"/>
            <a:ext cx="457200" cy="38088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7"/>
          <p:cNvSpPr/>
          <p:nvPr/>
        </p:nvSpPr>
        <p:spPr>
          <a:xfrm>
            <a:off x="6477120" y="1522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8"/>
          <p:cNvSpPr/>
          <p:nvPr/>
        </p:nvSpPr>
        <p:spPr>
          <a:xfrm>
            <a:off x="5292720" y="1522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2533680" y="2882880"/>
            <a:ext cx="407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2533680" y="2882880"/>
            <a:ext cx="407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1"/>
          <p:cNvSpPr/>
          <p:nvPr/>
        </p:nvSpPr>
        <p:spPr>
          <a:xfrm>
            <a:off x="2533680" y="2882880"/>
            <a:ext cx="407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2"/>
          <p:cNvSpPr/>
          <p:nvPr/>
        </p:nvSpPr>
        <p:spPr>
          <a:xfrm>
            <a:off x="250920" y="836640"/>
            <a:ext cx="856908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m a fórmula 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6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 temos duas substânci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H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C – CH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– 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unção álcool, líquido incolor, P.E.= 78,5°C, apresenta moderada reatividade quím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H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C – O – CH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3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unção éter, gás incolor, liquefaz a -23°C, apresenta baixa reatividade quím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0" y="154080"/>
            <a:ext cx="9144000" cy="4554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609480" y="90360"/>
            <a:ext cx="468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Tipos de Isom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" action="ppaction://hlinkshowjump?jump=previousslide"/>
          </p:cNvPr>
          <p:cNvSpPr/>
          <p:nvPr/>
        </p:nvSpPr>
        <p:spPr>
          <a:xfrm rot="16201800">
            <a:off x="112680" y="112320"/>
            <a:ext cx="459000" cy="38268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5">
            <a:hlinkClick r:id="" action="ppaction://hlinkshowjump?jump=nextslide"/>
          </p:cNvPr>
          <p:cNvSpPr/>
          <p:nvPr/>
        </p:nvSpPr>
        <p:spPr>
          <a:xfrm rot="5400000">
            <a:off x="8648640" y="419040"/>
            <a:ext cx="457200" cy="38088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6"/>
          <p:cNvSpPr/>
          <p:nvPr/>
        </p:nvSpPr>
        <p:spPr>
          <a:xfrm>
            <a:off x="6477120" y="1522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7"/>
          <p:cNvSpPr/>
          <p:nvPr/>
        </p:nvSpPr>
        <p:spPr>
          <a:xfrm>
            <a:off x="5292720" y="1522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2533680" y="2882880"/>
            <a:ext cx="407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2533680" y="2882880"/>
            <a:ext cx="407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2533680" y="2882880"/>
            <a:ext cx="407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250920" y="836640"/>
            <a:ext cx="8569080" cy="54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omeria Plana – Os isômeros podem ser diferenciados pela fórmula estrutural pla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omeria Espacial ou Estereoisomeria – Os isômeros são diferenciados pelas suas estruturas espacia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Arial"/>
              </a:rPr>
              <a:t>Isomeria Geométric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Arial"/>
              </a:rPr>
              <a:t>Isomeria Óptic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154080"/>
            <a:ext cx="9144000" cy="4554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609480" y="90360"/>
            <a:ext cx="468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Isomeria Pl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4">
            <a:hlinkClick r:id="" action="ppaction://hlinkshowjump?jump=previousslide"/>
          </p:cNvPr>
          <p:cNvSpPr/>
          <p:nvPr/>
        </p:nvSpPr>
        <p:spPr>
          <a:xfrm rot="16201800">
            <a:off x="112680" y="112320"/>
            <a:ext cx="459000" cy="38268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5">
            <a:hlinkClick r:id="" action="ppaction://hlinkshowjump?jump=nextslide"/>
          </p:cNvPr>
          <p:cNvSpPr/>
          <p:nvPr/>
        </p:nvSpPr>
        <p:spPr>
          <a:xfrm rot="5400000">
            <a:off x="8648640" y="419040"/>
            <a:ext cx="457200" cy="38088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>
            <a:off x="6477120" y="1522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5292720" y="1522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533680" y="2882880"/>
            <a:ext cx="407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2533680" y="2882880"/>
            <a:ext cx="407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0"/>
          <p:cNvSpPr/>
          <p:nvPr/>
        </p:nvSpPr>
        <p:spPr>
          <a:xfrm>
            <a:off x="2533680" y="2882880"/>
            <a:ext cx="407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13"/>
          <p:cNvSpPr/>
          <p:nvPr/>
        </p:nvSpPr>
        <p:spPr>
          <a:xfrm>
            <a:off x="395280" y="84564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 isomeria plana é dividida em 5 partes: </a:t>
            </a:r>
            <a:r>
              <a:rPr b="1" lang="pt-BR" sz="2800" spc="-1" strike="noStrike">
                <a:solidFill>
                  <a:srgbClr val="ff0000"/>
                </a:solidFill>
                <a:latin typeface="Times New Roman"/>
              </a:rPr>
              <a:t>isomeria de função, de cadeia, de posição, metameria e tautomeria</a:t>
            </a:r>
            <a:r>
              <a:rPr b="0" lang="pt-BR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4"/>
          <p:cNvSpPr/>
          <p:nvPr/>
        </p:nvSpPr>
        <p:spPr>
          <a:xfrm>
            <a:off x="-344520" y="-75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908000" y="2133720"/>
          <a:ext cx="5904000" cy="457200"/>
        </p:xfrm>
        <a:graphic>
          <a:graphicData uri="http://schemas.openxmlformats.org/drawingml/2006/table">
            <a:tbl>
              <a:tblPr/>
              <a:tblGrid>
                <a:gridCol w="59040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someria de Função ou Funcion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8080"/>
                      </a:solidFill>
                    </a:lnL>
                    <a:lnR w="4320">
                      <a:solidFill>
                        <a:srgbClr val="008080"/>
                      </a:solidFill>
                    </a:lnR>
                    <a:lnT w="4320">
                      <a:solidFill>
                        <a:srgbClr val="008080"/>
                      </a:solidFill>
                    </a:lnT>
                    <a:lnB w="4320">
                      <a:solidFill>
                        <a:srgbClr val="008080"/>
                      </a:solidFill>
                    </a:lnB>
                    <a:solidFill>
                      <a:srgbClr val="008080"/>
                    </a:solidFill>
                  </a:tcPr>
                </a:tc>
              </a:tr>
            </a:tbl>
          </a:graphicData>
        </a:graphic>
      </p:graphicFrame>
      <p:sp>
        <p:nvSpPr>
          <p:cNvPr id="94" name="Rectangle 25"/>
          <p:cNvSpPr/>
          <p:nvPr/>
        </p:nvSpPr>
        <p:spPr>
          <a:xfrm>
            <a:off x="684360" y="2491920"/>
            <a:ext cx="784836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  <a:ea typeface="Arial"/>
              </a:rPr>
              <a:t>  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 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Na isomeria de função os compostos possuem diferenças apenas entre a função química. Veja alguns exempl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3080" y="3429000"/>
          <a:ext cx="9061560" cy="2392200"/>
        </p:xfrm>
        <a:graphic>
          <a:graphicData uri="http://schemas.openxmlformats.org/drawingml/2006/table">
            <a:tbl>
              <a:tblPr/>
              <a:tblGrid>
                <a:gridCol w="1725840"/>
                <a:gridCol w="1755720"/>
                <a:gridCol w="216000"/>
                <a:gridCol w="2766240"/>
                <a:gridCol w="2597760"/>
              </a:tblGrid>
              <a:tr h="99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pt-BR" sz="3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                                                      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pt-BR" sz="2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                                          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pt-BR" sz="3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                                                                             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pt-BR" sz="3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                                                                   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ldeí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eto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Ácido Carboxíl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És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520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</a:t>
                      </a:r>
                      <a:r>
                        <a:rPr b="1" lang="pt-BR" sz="16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H</a:t>
                      </a:r>
                      <a:r>
                        <a:rPr b="1" lang="pt-BR" sz="16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</a:t>
                      </a:r>
                      <a:r>
                        <a:rPr b="1" lang="pt-BR" sz="16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H</a:t>
                      </a:r>
                      <a:r>
                        <a:rPr b="1" lang="pt-BR" sz="16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</a:t>
                      </a:r>
                      <a:r>
                        <a:rPr b="1" lang="pt-BR" sz="16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pa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pano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Ácido Butanó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tanoato de Eti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96" name="Rectangle 76"/>
          <p:cNvSpPr/>
          <p:nvPr/>
        </p:nvSpPr>
        <p:spPr>
          <a:xfrm>
            <a:off x="324000" y="5875920"/>
            <a:ext cx="849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  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Outros exemplos comuns são isomeria funcional entre álcool e éter, álcool aromático e feno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27" descr="128"/>
          <p:cNvPicPr/>
          <p:nvPr/>
        </p:nvPicPr>
        <p:blipFill>
          <a:blip r:embed="rId3"/>
          <a:stretch/>
        </p:blipFill>
        <p:spPr>
          <a:xfrm>
            <a:off x="108000" y="3475080"/>
            <a:ext cx="1260360" cy="780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9" descr="247"/>
          <p:cNvPicPr/>
          <p:nvPr/>
        </p:nvPicPr>
        <p:blipFill>
          <a:blip r:embed="rId4"/>
          <a:stretch/>
        </p:blipFill>
        <p:spPr>
          <a:xfrm>
            <a:off x="2211480" y="3551400"/>
            <a:ext cx="1030320" cy="6015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2" descr="145"/>
          <p:cNvPicPr/>
          <p:nvPr/>
        </p:nvPicPr>
        <p:blipFill>
          <a:blip r:embed="rId5"/>
          <a:stretch/>
        </p:blipFill>
        <p:spPr>
          <a:xfrm>
            <a:off x="4440240" y="3489480"/>
            <a:ext cx="1681200" cy="720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4" descr="248"/>
          <p:cNvPicPr/>
          <p:nvPr/>
        </p:nvPicPr>
        <p:blipFill>
          <a:blip r:embed="rId6"/>
          <a:stretch/>
        </p:blipFill>
        <p:spPr>
          <a:xfrm>
            <a:off x="7386480" y="3475080"/>
            <a:ext cx="1471680" cy="7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0" y="154080"/>
            <a:ext cx="9144000" cy="4554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609480" y="90360"/>
            <a:ext cx="468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Isomeria Pl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4">
            <a:hlinkClick r:id="" action="ppaction://hlinkshowjump?jump=previousslide"/>
          </p:cNvPr>
          <p:cNvSpPr/>
          <p:nvPr/>
        </p:nvSpPr>
        <p:spPr>
          <a:xfrm rot="16201800">
            <a:off x="112680" y="112320"/>
            <a:ext cx="459000" cy="38268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5">
            <a:hlinkClick r:id="" action="ppaction://hlinkshowjump?jump=nextslide"/>
          </p:cNvPr>
          <p:cNvSpPr/>
          <p:nvPr/>
        </p:nvSpPr>
        <p:spPr>
          <a:xfrm rot="5400000">
            <a:off x="8648640" y="419040"/>
            <a:ext cx="457200" cy="38088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6"/>
          <p:cNvSpPr/>
          <p:nvPr/>
        </p:nvSpPr>
        <p:spPr>
          <a:xfrm>
            <a:off x="6477120" y="1522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7"/>
          <p:cNvSpPr/>
          <p:nvPr/>
        </p:nvSpPr>
        <p:spPr>
          <a:xfrm>
            <a:off x="5292720" y="1522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-344520" y="-75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49"/>
          <p:cNvSpPr/>
          <p:nvPr/>
        </p:nvSpPr>
        <p:spPr>
          <a:xfrm>
            <a:off x="0" y="-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124000" y="907920"/>
          <a:ext cx="5256360" cy="457200"/>
        </p:xfrm>
        <a:graphic>
          <a:graphicData uri="http://schemas.openxmlformats.org/drawingml/2006/table">
            <a:tbl>
              <a:tblPr/>
              <a:tblGrid>
                <a:gridCol w="52563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someria de Cadeia ou Núcle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8080"/>
                      </a:solidFill>
                    </a:lnL>
                    <a:lnR w="4320">
                      <a:solidFill>
                        <a:srgbClr val="008080"/>
                      </a:solidFill>
                    </a:lnR>
                    <a:lnT w="4320">
                      <a:solidFill>
                        <a:srgbClr val="008080"/>
                      </a:solidFill>
                    </a:lnT>
                    <a:lnB w="4320">
                      <a:solidFill>
                        <a:srgbClr val="008080"/>
                      </a:solidFill>
                    </a:lnB>
                    <a:solidFill>
                      <a:srgbClr val="00808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60"/>
          <p:cNvSpPr/>
          <p:nvPr/>
        </p:nvSpPr>
        <p:spPr>
          <a:xfrm>
            <a:off x="649440" y="1573920"/>
            <a:ext cx="817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Arial"/>
              </a:rPr>
              <a:t>   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Os compostos possuem a mesma função, mas possuem diferenças entre as suas cadei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46120" y="2565360"/>
          <a:ext cx="8077320" cy="3110040"/>
        </p:xfrm>
        <a:graphic>
          <a:graphicData uri="http://schemas.openxmlformats.org/drawingml/2006/table">
            <a:tbl>
              <a:tblPr/>
              <a:tblGrid>
                <a:gridCol w="2486520"/>
                <a:gridCol w="1963800"/>
                <a:gridCol w="216000"/>
                <a:gridCol w="1797120"/>
                <a:gridCol w="161388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                                                             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pt-BR" sz="3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                                              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                                              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pt-BR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                                    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Hidrocarbone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Hidrocarbone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08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</a:t>
                      </a:r>
                      <a:r>
                        <a:rPr b="1" lang="pt-BR" sz="16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H</a:t>
                      </a:r>
                      <a:r>
                        <a:rPr b="1" lang="pt-BR" sz="16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</a:t>
                      </a:r>
                      <a:r>
                        <a:rPr b="1" lang="pt-BR" sz="16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H</a:t>
                      </a:r>
                      <a:r>
                        <a:rPr b="1" lang="pt-BR" sz="16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But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etilprop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pe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icloprop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adeia aberta, </a:t>
                      </a:r>
                      <a:r>
                        <a:rPr b="1" lang="pt-BR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normal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,</a:t>
                      </a:r>
                      <a:br>
                        <a:rPr sz="1600"/>
                      </a:b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aturada e homogên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adeia aberta, </a:t>
                      </a:r>
                      <a:r>
                        <a:rPr b="1" lang="pt-BR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ramificada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,</a:t>
                      </a:r>
                      <a:br>
                        <a:rPr sz="1600"/>
                      </a:b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aturada e homogên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adeia </a:t>
                      </a:r>
                      <a:r>
                        <a:rPr b="1" lang="pt-BR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aberta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, normal,</a:t>
                      </a:r>
                      <a:br>
                        <a:rPr sz="1600"/>
                      </a:b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r>
                        <a:rPr b="1" lang="pt-BR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insaturada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e homogên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adeia </a:t>
                      </a:r>
                      <a:r>
                        <a:rPr b="1" lang="pt-BR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fechada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, normal,</a:t>
                      </a:r>
                      <a:br>
                        <a:rPr sz="1600"/>
                      </a:br>
                      <a:r>
                        <a:rPr b="1" lang="pt-BR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saturada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e homogên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112" name="Rectangle 119"/>
          <p:cNvSpPr/>
          <p:nvPr/>
        </p:nvSpPr>
        <p:spPr>
          <a:xfrm>
            <a:off x="4481640" y="72223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62" descr="249"/>
          <p:cNvPicPr/>
          <p:nvPr/>
        </p:nvPicPr>
        <p:blipFill>
          <a:blip r:embed="rId3"/>
          <a:stretch/>
        </p:blipFill>
        <p:spPr>
          <a:xfrm>
            <a:off x="750960" y="2755800"/>
            <a:ext cx="1733400" cy="422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4" descr="250"/>
          <p:cNvPicPr/>
          <p:nvPr/>
        </p:nvPicPr>
        <p:blipFill>
          <a:blip r:embed="rId4"/>
          <a:stretch/>
        </p:blipFill>
        <p:spPr>
          <a:xfrm>
            <a:off x="3322800" y="2657520"/>
            <a:ext cx="1249200" cy="685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7" descr="251"/>
          <p:cNvPicPr/>
          <p:nvPr/>
        </p:nvPicPr>
        <p:blipFill>
          <a:blip r:embed="rId5"/>
          <a:stretch/>
        </p:blipFill>
        <p:spPr>
          <a:xfrm>
            <a:off x="5318280" y="2755800"/>
            <a:ext cx="1341360" cy="426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9" descr="058"/>
          <p:cNvPicPr/>
          <p:nvPr/>
        </p:nvPicPr>
        <p:blipFill>
          <a:blip r:embed="rId6"/>
          <a:stretch/>
        </p:blipFill>
        <p:spPr>
          <a:xfrm>
            <a:off x="7259760" y="2565360"/>
            <a:ext cx="9126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154080"/>
            <a:ext cx="9144000" cy="4554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609480" y="90360"/>
            <a:ext cx="468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Isomeria Pl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4">
            <a:hlinkClick r:id="" action="ppaction://hlinkshowjump?jump=previousslide"/>
          </p:cNvPr>
          <p:cNvSpPr/>
          <p:nvPr/>
        </p:nvSpPr>
        <p:spPr>
          <a:xfrm rot="16201800">
            <a:off x="112680" y="112320"/>
            <a:ext cx="459000" cy="38268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5">
            <a:hlinkClick r:id="" action="ppaction://hlinkshowjump?jump=nextslide"/>
          </p:cNvPr>
          <p:cNvSpPr/>
          <p:nvPr/>
        </p:nvSpPr>
        <p:spPr>
          <a:xfrm rot="5400000">
            <a:off x="8648640" y="419040"/>
            <a:ext cx="457200" cy="38088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6"/>
          <p:cNvSpPr/>
          <p:nvPr/>
        </p:nvSpPr>
        <p:spPr>
          <a:xfrm>
            <a:off x="6477120" y="1522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7"/>
          <p:cNvSpPr/>
          <p:nvPr/>
        </p:nvSpPr>
        <p:spPr>
          <a:xfrm>
            <a:off x="5292720" y="1522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-344520" y="-75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0" y="-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44"/>
          <p:cNvSpPr/>
          <p:nvPr/>
        </p:nvSpPr>
        <p:spPr>
          <a:xfrm>
            <a:off x="4481640" y="72223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49"/>
          <p:cNvSpPr/>
          <p:nvPr/>
        </p:nvSpPr>
        <p:spPr>
          <a:xfrm>
            <a:off x="-171360" y="1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627280" y="981000"/>
          <a:ext cx="3529080" cy="457200"/>
        </p:xfrm>
        <a:graphic>
          <a:graphicData uri="http://schemas.openxmlformats.org/drawingml/2006/table">
            <a:tbl>
              <a:tblPr/>
              <a:tblGrid>
                <a:gridCol w="352908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someria de Posiçã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8080"/>
                      </a:solidFill>
                    </a:lnL>
                    <a:lnR w="4320">
                      <a:solidFill>
                        <a:srgbClr val="008080"/>
                      </a:solidFill>
                    </a:lnR>
                    <a:lnT w="4320">
                      <a:solidFill>
                        <a:srgbClr val="008080"/>
                      </a:solidFill>
                    </a:lnT>
                    <a:lnB w="4320">
                      <a:solidFill>
                        <a:srgbClr val="008080"/>
                      </a:solidFill>
                    </a:lnB>
                    <a:solidFill>
                      <a:srgbClr val="008080"/>
                    </a:solidFill>
                  </a:tcPr>
                </a:tc>
              </a:tr>
            </a:tbl>
          </a:graphicData>
        </a:graphic>
      </p:graphicFrame>
      <p:sp>
        <p:nvSpPr>
          <p:cNvPr id="128" name="Rectangle 60"/>
          <p:cNvSpPr/>
          <p:nvPr/>
        </p:nvSpPr>
        <p:spPr>
          <a:xfrm>
            <a:off x="250920" y="1627560"/>
            <a:ext cx="8893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Arial"/>
              </a:rPr>
              <a:t> 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 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Os isômeros de posição possuem cadeias iguais e possuem a mesma função, mas possuem diferenças na posição do grupo funcional, ramificação ou insaturaçã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79200" y="3043080"/>
          <a:ext cx="9055440" cy="2225880"/>
        </p:xfrm>
        <a:graphic>
          <a:graphicData uri="http://schemas.openxmlformats.org/drawingml/2006/table">
            <a:tbl>
              <a:tblPr/>
              <a:tblGrid>
                <a:gridCol w="1999080"/>
                <a:gridCol w="2521800"/>
                <a:gridCol w="216000"/>
                <a:gridCol w="2111040"/>
                <a:gridCol w="2207520"/>
              </a:tblGrid>
              <a:tr h="67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                                               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                                                              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                                                       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                                                     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20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Álco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lci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</a:t>
                      </a:r>
                      <a:r>
                        <a:rPr b="1" lang="pt-BR" sz="16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H</a:t>
                      </a:r>
                      <a:r>
                        <a:rPr b="1" lang="pt-BR" sz="16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</a:t>
                      </a:r>
                      <a:r>
                        <a:rPr b="1" lang="pt-BR" sz="16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H</a:t>
                      </a:r>
                      <a:r>
                        <a:rPr b="1" lang="pt-BR" sz="16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Propan</a:t>
                      </a:r>
                      <a:r>
                        <a:rPr b="1" lang="pt-BR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Propan</a:t>
                      </a:r>
                      <a:r>
                        <a:rPr b="1" lang="pt-BR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But</a:t>
                      </a:r>
                      <a:r>
                        <a:rPr b="1" lang="pt-BR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in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But</a:t>
                      </a:r>
                      <a:r>
                        <a:rPr b="1" lang="pt-BR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in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pic>
        <p:nvPicPr>
          <p:cNvPr id="130" name="Picture 62" descr="252"/>
          <p:cNvPicPr/>
          <p:nvPr/>
        </p:nvPicPr>
        <p:blipFill>
          <a:blip r:embed="rId3"/>
          <a:stretch/>
        </p:blipFill>
        <p:spPr>
          <a:xfrm>
            <a:off x="209520" y="3089160"/>
            <a:ext cx="1122480" cy="586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4" descr="253"/>
          <p:cNvPicPr/>
          <p:nvPr/>
        </p:nvPicPr>
        <p:blipFill>
          <a:blip r:embed="rId4"/>
          <a:stretch/>
        </p:blipFill>
        <p:spPr>
          <a:xfrm>
            <a:off x="2211480" y="3173400"/>
            <a:ext cx="1712880" cy="414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7" descr="238"/>
          <p:cNvPicPr/>
          <p:nvPr/>
        </p:nvPicPr>
        <p:blipFill>
          <a:blip r:embed="rId5"/>
          <a:stretch/>
        </p:blipFill>
        <p:spPr>
          <a:xfrm>
            <a:off x="4921200" y="3173400"/>
            <a:ext cx="1595520" cy="431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9" descr="254"/>
          <p:cNvPicPr/>
          <p:nvPr/>
        </p:nvPicPr>
        <p:blipFill>
          <a:blip r:embed="rId6"/>
          <a:stretch/>
        </p:blipFill>
        <p:spPr>
          <a:xfrm>
            <a:off x="7031160" y="3173400"/>
            <a:ext cx="1428480" cy="3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0" y="154080"/>
            <a:ext cx="9144000" cy="4554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09480" y="90360"/>
            <a:ext cx="468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Isomeria Pl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4">
            <a:hlinkClick r:id="" action="ppaction://hlinkshowjump?jump=previousslide"/>
          </p:cNvPr>
          <p:cNvSpPr/>
          <p:nvPr/>
        </p:nvSpPr>
        <p:spPr>
          <a:xfrm rot="16201800">
            <a:off x="112680" y="112320"/>
            <a:ext cx="459000" cy="38268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5">
            <a:hlinkClick r:id="" action="ppaction://hlinkshowjump?jump=nextslide"/>
          </p:cNvPr>
          <p:cNvSpPr/>
          <p:nvPr/>
        </p:nvSpPr>
        <p:spPr>
          <a:xfrm rot="5400000">
            <a:off x="8648640" y="419040"/>
            <a:ext cx="457200" cy="38088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6"/>
          <p:cNvSpPr/>
          <p:nvPr/>
        </p:nvSpPr>
        <p:spPr>
          <a:xfrm>
            <a:off x="6477120" y="1522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7"/>
          <p:cNvSpPr/>
          <p:nvPr/>
        </p:nvSpPr>
        <p:spPr>
          <a:xfrm>
            <a:off x="5292720" y="1522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-344520" y="-75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0" y="-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4481640" y="494100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-171360" y="1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45"/>
          <p:cNvSpPr/>
          <p:nvPr/>
        </p:nvSpPr>
        <p:spPr>
          <a:xfrm>
            <a:off x="-782640" y="-11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042920" y="957240"/>
          <a:ext cx="6912000" cy="457200"/>
        </p:xfrm>
        <a:graphic>
          <a:graphicData uri="http://schemas.openxmlformats.org/drawingml/2006/table">
            <a:tbl>
              <a:tblPr/>
              <a:tblGrid>
                <a:gridCol w="69120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etameria ou Isomeria de Compensaçã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8080"/>
                      </a:solidFill>
                    </a:lnL>
                    <a:lnR w="4320">
                      <a:solidFill>
                        <a:srgbClr val="008080"/>
                      </a:solidFill>
                    </a:lnR>
                    <a:lnT w="4320">
                      <a:solidFill>
                        <a:srgbClr val="008080"/>
                      </a:solidFill>
                    </a:lnT>
                    <a:lnB w="4320">
                      <a:solidFill>
                        <a:srgbClr val="008080"/>
                      </a:solidFill>
                    </a:lnB>
                    <a:solidFill>
                      <a:srgbClr val="008080"/>
                    </a:solidFill>
                  </a:tcPr>
                </a:tc>
              </a:tr>
            </a:tbl>
          </a:graphicData>
        </a:graphic>
      </p:graphicFrame>
      <p:sp>
        <p:nvSpPr>
          <p:cNvPr id="146" name="Rectangle 56"/>
          <p:cNvSpPr/>
          <p:nvPr/>
        </p:nvSpPr>
        <p:spPr>
          <a:xfrm>
            <a:off x="539640" y="1721520"/>
            <a:ext cx="813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   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A metameria é um caso particular da isomeria de posição. Nela, os metâmeros pertencem à mesma função, possuem cadeias iguais e a única diferença é a posição de um heteroáto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27080" y="2924280"/>
          <a:ext cx="8918640" cy="2454120"/>
        </p:xfrm>
        <a:graphic>
          <a:graphicData uri="http://schemas.openxmlformats.org/drawingml/2006/table">
            <a:tbl>
              <a:tblPr/>
              <a:tblGrid>
                <a:gridCol w="2474280"/>
                <a:gridCol w="2412360"/>
                <a:gridCol w="216000"/>
                <a:gridCol w="1943280"/>
                <a:gridCol w="1872720"/>
              </a:tblGrid>
              <a:tr h="99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                                                                        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                                                                      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pt-BR" sz="3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                                                            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pt-BR" sz="3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                                                    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20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É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És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</a:t>
                      </a:r>
                      <a:r>
                        <a:rPr b="1" lang="pt-BR" sz="16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H</a:t>
                      </a:r>
                      <a:r>
                        <a:rPr b="1" lang="pt-BR" sz="16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</a:t>
                      </a:r>
                      <a:r>
                        <a:rPr b="1" lang="pt-BR" sz="16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H</a:t>
                      </a:r>
                      <a:r>
                        <a:rPr b="1" lang="pt-BR" sz="16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</a:t>
                      </a:r>
                      <a:r>
                        <a:rPr b="1" lang="pt-BR" sz="16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tóxi Et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etóxi Prop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etanoato de Eti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tanoato de Meti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148" name="Rectangle 105"/>
          <p:cNvSpPr/>
          <p:nvPr/>
        </p:nvSpPr>
        <p:spPr>
          <a:xfrm>
            <a:off x="250920" y="558072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   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Outros exemplos de metameria são entre as aminas ou entre as amidas comuns e substituí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58" descr="255"/>
          <p:cNvPicPr/>
          <p:nvPr/>
        </p:nvPicPr>
        <p:blipFill>
          <a:blip r:embed="rId3"/>
          <a:stretch/>
        </p:blipFill>
        <p:spPr>
          <a:xfrm>
            <a:off x="539640" y="3164040"/>
            <a:ext cx="1611360" cy="3362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0" descr="256"/>
          <p:cNvPicPr/>
          <p:nvPr/>
        </p:nvPicPr>
        <p:blipFill>
          <a:blip r:embed="rId4"/>
          <a:stretch/>
        </p:blipFill>
        <p:spPr>
          <a:xfrm>
            <a:off x="2843280" y="3137040"/>
            <a:ext cx="1779480" cy="3855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3" descr="257"/>
          <p:cNvPicPr/>
          <p:nvPr/>
        </p:nvPicPr>
        <p:blipFill>
          <a:blip r:embed="rId5"/>
          <a:stretch/>
        </p:blipFill>
        <p:spPr>
          <a:xfrm>
            <a:off x="5338800" y="2970360"/>
            <a:ext cx="1320840" cy="739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5" descr="258"/>
          <p:cNvPicPr/>
          <p:nvPr/>
        </p:nvPicPr>
        <p:blipFill>
          <a:blip r:embed="rId6"/>
          <a:stretch/>
        </p:blipFill>
        <p:spPr>
          <a:xfrm>
            <a:off x="7491240" y="2970360"/>
            <a:ext cx="118440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0" y="154080"/>
            <a:ext cx="9144000" cy="4554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609480" y="90360"/>
            <a:ext cx="468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Isomeria Pl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4">
            <a:hlinkClick r:id="" action="ppaction://hlinkshowjump?jump=previousslide"/>
          </p:cNvPr>
          <p:cNvSpPr/>
          <p:nvPr/>
        </p:nvSpPr>
        <p:spPr>
          <a:xfrm rot="16201800">
            <a:off x="112680" y="112320"/>
            <a:ext cx="459000" cy="38268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5">
            <a:hlinkClick r:id="" action="ppaction://hlinkshowjump?jump=nextslide"/>
          </p:cNvPr>
          <p:cNvSpPr/>
          <p:nvPr/>
        </p:nvSpPr>
        <p:spPr>
          <a:xfrm rot="5400000">
            <a:off x="8648640" y="419040"/>
            <a:ext cx="457200" cy="38088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6"/>
          <p:cNvSpPr/>
          <p:nvPr/>
        </p:nvSpPr>
        <p:spPr>
          <a:xfrm>
            <a:off x="6477120" y="1522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7"/>
          <p:cNvSpPr/>
          <p:nvPr/>
        </p:nvSpPr>
        <p:spPr>
          <a:xfrm>
            <a:off x="5292720" y="1522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-344520" y="-75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0" y="-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-171360" y="1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-782640" y="-11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47"/>
          <p:cNvSpPr/>
          <p:nvPr/>
        </p:nvSpPr>
        <p:spPr>
          <a:xfrm>
            <a:off x="-4513320" y="-93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619280" y="812880"/>
          <a:ext cx="5689440" cy="457200"/>
        </p:xfrm>
        <a:graphic>
          <a:graphicData uri="http://schemas.openxmlformats.org/drawingml/2006/table">
            <a:tbl>
              <a:tblPr/>
              <a:tblGrid>
                <a:gridCol w="568944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automeria ou Isomeria Dinâmi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8080"/>
                      </a:solidFill>
                    </a:lnL>
                    <a:lnR w="4320">
                      <a:solidFill>
                        <a:srgbClr val="008080"/>
                      </a:solidFill>
                    </a:lnR>
                    <a:lnT w="4320">
                      <a:solidFill>
                        <a:srgbClr val="008080"/>
                      </a:solidFill>
                    </a:lnT>
                    <a:lnB w="4320">
                      <a:solidFill>
                        <a:srgbClr val="008080"/>
                      </a:solidFill>
                    </a:lnB>
                    <a:solidFill>
                      <a:srgbClr val="008080"/>
                    </a:solidFill>
                  </a:tcPr>
                </a:tc>
              </a:tr>
            </a:tbl>
          </a:graphicData>
        </a:graphic>
      </p:graphicFrame>
      <p:sp>
        <p:nvSpPr>
          <p:cNvPr id="165" name="Rectangle 58"/>
          <p:cNvSpPr/>
          <p:nvPr/>
        </p:nvSpPr>
        <p:spPr>
          <a:xfrm>
            <a:off x="355680" y="1340280"/>
            <a:ext cx="8609040" cy="23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   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Este é um caso especial da isomeria de função, onde os isômeros coexistem em um equilíbrio químico. Os tautômeros mais comuns são os enóis e as cetonas ou os enóis e os aldeídos. A diferença é a posição da hidroxila insaturada: em um carbono 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 ela gera um aldeído e em um carbono localizado no meio de uma cadeia ela gera uma cetona. Exempl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539640" y="3645000"/>
          <a:ext cx="8285400" cy="1844640"/>
        </p:xfrm>
        <a:graphic>
          <a:graphicData uri="http://schemas.openxmlformats.org/drawingml/2006/table">
            <a:tbl>
              <a:tblPr/>
              <a:tblGrid>
                <a:gridCol w="2341080"/>
                <a:gridCol w="1841400"/>
                <a:gridCol w="216000"/>
                <a:gridCol w="1851120"/>
                <a:gridCol w="2035800"/>
              </a:tblGrid>
              <a:tr h="78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pt-BR" sz="3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                                   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pt-BR" sz="3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                                     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pt-BR" sz="2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                                          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pt-BR" sz="2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                                          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ldeí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n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eto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n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808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</a:t>
                      </a:r>
                      <a:r>
                        <a:rPr b="1" lang="pt-BR" sz="16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H</a:t>
                      </a:r>
                      <a:r>
                        <a:rPr b="1" lang="pt-BR" sz="16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</a:t>
                      </a:r>
                      <a:r>
                        <a:rPr b="1" lang="pt-BR" sz="16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H</a:t>
                      </a:r>
                      <a:r>
                        <a:rPr b="1" lang="pt-BR" sz="16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ta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ten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pano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pen-2-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pic>
        <p:nvPicPr>
          <p:cNvPr id="167" name="Picture 60" descr="127"/>
          <p:cNvPicPr/>
          <p:nvPr/>
        </p:nvPicPr>
        <p:blipFill>
          <a:blip r:embed="rId3"/>
          <a:stretch/>
        </p:blipFill>
        <p:spPr>
          <a:xfrm>
            <a:off x="1258920" y="3645000"/>
            <a:ext cx="879480" cy="8157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2" descr="260"/>
          <p:cNvPicPr/>
          <p:nvPr/>
        </p:nvPicPr>
        <p:blipFill>
          <a:blip r:embed="rId4"/>
          <a:stretch/>
        </p:blipFill>
        <p:spPr>
          <a:xfrm>
            <a:off x="3354480" y="3735360"/>
            <a:ext cx="930240" cy="6955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5" descr="259"/>
          <p:cNvPicPr/>
          <p:nvPr/>
        </p:nvPicPr>
        <p:blipFill>
          <a:blip r:embed="rId5"/>
          <a:stretch/>
        </p:blipFill>
        <p:spPr>
          <a:xfrm>
            <a:off x="5305320" y="3767040"/>
            <a:ext cx="1047960" cy="611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7" descr="261"/>
          <p:cNvPicPr/>
          <p:nvPr/>
        </p:nvPicPr>
        <p:blipFill>
          <a:blip r:embed="rId6"/>
          <a:stretch/>
        </p:blipFill>
        <p:spPr>
          <a:xfrm>
            <a:off x="7196040" y="3683160"/>
            <a:ext cx="1121040" cy="65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3T16:47:21Z</dcterms:created>
  <dc:creator>Leonardo Pimentel</dc:creator>
  <dc:description/>
  <dc:language>en-US</dc:language>
  <cp:lastModifiedBy>Moisés</cp:lastModifiedBy>
  <dcterms:modified xsi:type="dcterms:W3CDTF">2013-09-24T10:22:25Z</dcterms:modified>
  <cp:revision>24</cp:revision>
  <dc:subject>Ligação iônica,molecular e metálica</dc:subject>
  <dc:title>Slide 1</dc:title>
</cp:coreProperties>
</file>